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01287-CAD1-47F8-8E51-496E21C3A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C2C52-22F0-402A-A4D9-B052746AB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FC9ED-A7F8-4006-82B2-CB925881D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FD526-0608-4D8D-B3A3-7775DA759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4E4C1-7105-49D6-B713-556834138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4A174-D320-4AF9-857F-7C21F658E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9E8C1-BF95-4369-B774-256DD8580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638BE-27D1-4E47-8C60-278F14F7C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C560C-A287-4CB6-844F-951AA6484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880F7-4E8A-4F66-8089-53BC1397C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33366-D529-4643-9CBA-7DEB22B42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87DCD-39F3-4ADD-A06D-5DDC0F9CD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C6916-4F75-44B8-9195-DFCEC2E8C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7B66B-67EA-4E14-B8B4-EE51E1650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7CAAD-324E-46BD-8503-6DFEC36D1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1B781-97F3-411D-B622-02C64BA82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22E38-DD34-4C45-9021-D83598CC6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BDBA-440E-4F76-8C3D-137BFF2DA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28E4-F912-4BC6-B4F5-6DD2852E0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08E87-EFC2-415A-8467-605F5DB8E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C9A61-08EF-454D-B9AA-FC3F6CAE4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30B18-3181-4FF6-AF51-1CC9E5594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A9EDB-9A3B-45B3-8481-ACC73F577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7806-4264-43F4-8765-ADCB1EB05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C356-0982-4841-A44C-11AD7A94DCB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C8DB-8890-41C8-A86C-32CE6D5F140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33000"/>
            <a:ext cx="7773840" cy="2259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Arial Black"/>
              </a:rPr>
              <a:t>C’er@ una volta </a:t>
            </a:r>
            <a:br>
              <a:rPr sz="4800"/>
            </a:br>
            <a:r>
              <a:rPr b="1" lang="it-IT" sz="4800" spc="-1" strike="noStrike">
                <a:solidFill>
                  <a:srgbClr val="000000"/>
                </a:solidFill>
                <a:latin typeface="Arial Black"/>
              </a:rPr>
              <a:t>esperienze di scrittura multimediale</a:t>
            </a:r>
            <a:endParaRPr b="1" lang="en-US" sz="4800" spc="-1" strike="noStrike">
              <a:solidFill>
                <a:srgbClr val="000000"/>
              </a:solidFill>
              <a:latin typeface="Arial Black"/>
            </a:endParaRPr>
          </a:p>
        </p:txBody>
      </p:sp>
      <p:sp>
        <p:nvSpPr>
          <p:cNvPr id="99" name="PlaceHolder 2"/>
          <p:cNvSpPr>
            <a:spLocks noGrp="1"/>
          </p:cNvSpPr>
          <p:nvPr>
            <p:ph type="subTitle"/>
          </p:nvPr>
        </p:nvSpPr>
        <p:spPr>
          <a:xfrm>
            <a:off x="1403280" y="48690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A scuola media di Mezzani</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012-2013</a:t>
            </a:r>
            <a:endParaRPr b="0" lang="en-US" sz="3200" spc="-1" strike="noStrike">
              <a:solidFill>
                <a:srgbClr val="000000"/>
              </a:solidFill>
              <a:latin typeface="Arial"/>
            </a:endParaRPr>
          </a:p>
        </p:txBody>
      </p:sp>
      <p:pic>
        <p:nvPicPr>
          <p:cNvPr id="100" name="lasceltadipalmiro.mp3" descr=""/>
          <p:cNvPicPr/>
          <p:nvPr/>
        </p:nvPicPr>
        <p:blipFill>
          <a:blip r:embed="rId1"/>
          <a:stretch/>
        </p:blipFill>
        <p:spPr>
          <a:xfrm>
            <a:off x="4419720" y="3276720"/>
            <a:ext cx="304560" cy="304560"/>
          </a:xfrm>
          <a:prstGeom prst="rect">
            <a:avLst/>
          </a:prstGeom>
          <a:ln w="0">
            <a:noFill/>
          </a:ln>
        </p:spPr>
      </p:pic>
    </p:spTree>
  </p:cSld>
  <p:transition advTm="2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lmiro rimase solo e disorientato. Era disperato per la morte del padre e  sconvolto per la scomparsa della madre. Per renderli felici decise di continuare il  viaggio progettato dai genitori.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po tanti chilometri a piedi, Palmiro arrivò alla città di Brandac. Aveva molta fame e molta sete e nemmeno un soldo, allora vide un circo di fachiri ed ebbe un'idea: iscriversi  al concorso indetto per quella giornata, che permetteva a tutta la cittadinanza di misurasi nell’arte circense.  Il premio in palio era piuttosto ricco, ma Palmiro sperava solo di vincere  un po' di soldi per mangiare.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entrò nel circo si inscrisse a partecipare alle tre prove di “fachiraggio” in programma per la giornata: </a:t>
            </a:r>
            <a:endParaRPr b="0" lang="en-US" sz="2400" spc="-1" strike="noStrike">
              <a:solidFill>
                <a:srgbClr val="000000"/>
              </a:solidFill>
              <a:latin typeface="Arial"/>
            </a:endParaRPr>
          </a:p>
        </p:txBody>
      </p:sp>
    </p:spTree>
  </p:cSld>
  <p:transition advTm="2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917960" y="1904760"/>
            <a:ext cx="392760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rima prova consisteva nell'ingoiare una lunga spada di acciaio. Su tredici partecipanti, lui fu l'unico a portare a termine l'esibizione. </a:t>
            </a:r>
            <a:endParaRPr b="0" lang="en-US" sz="2800" spc="-1" strike="noStrike">
              <a:solidFill>
                <a:srgbClr val="000000"/>
              </a:solidFill>
              <a:latin typeface="Arial"/>
            </a:endParaRPr>
          </a:p>
        </p:txBody>
      </p:sp>
      <p:pic>
        <p:nvPicPr>
          <p:cNvPr id="117" name="Picture 11" descr="palmiro005"/>
          <p:cNvPicPr/>
          <p:nvPr/>
        </p:nvPicPr>
        <p:blipFill>
          <a:blip r:embed="rId1"/>
          <a:stretch/>
        </p:blipFill>
        <p:spPr>
          <a:xfrm>
            <a:off x="1332000" y="692280"/>
            <a:ext cx="2743200" cy="5702040"/>
          </a:xfrm>
          <a:prstGeom prst="rect">
            <a:avLst/>
          </a:prstGeom>
          <a:ln w="0">
            <a:noFill/>
          </a:ln>
        </p:spPr>
      </p:pic>
    </p:spTree>
  </p:cSld>
  <p:transition advTm="2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9280" y="260280"/>
            <a:ext cx="392760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econda prova prevedeva di camminare sui carboni ardenti il più a lungo possibile. Il giovane Palmiro resistette per un'ora, mentre gli altri concorrenti scapparono a gambe levate dopo appena qualche minuto. </a:t>
            </a:r>
            <a:endParaRPr b="0" lang="en-US" sz="2400" spc="-1" strike="noStrike">
              <a:solidFill>
                <a:srgbClr val="000000"/>
              </a:solidFill>
              <a:latin typeface="Arial"/>
            </a:endParaRPr>
          </a:p>
        </p:txBody>
      </p:sp>
      <p:pic>
        <p:nvPicPr>
          <p:cNvPr id="119" name="Picture 7" descr="palmiro006"/>
          <p:cNvPicPr/>
          <p:nvPr/>
        </p:nvPicPr>
        <p:blipFill>
          <a:blip r:embed="rId1"/>
          <a:stretch/>
        </p:blipFill>
        <p:spPr>
          <a:xfrm>
            <a:off x="4140360" y="1844640"/>
            <a:ext cx="4752720" cy="3287880"/>
          </a:xfrm>
          <a:prstGeom prst="rect">
            <a:avLst/>
          </a:prstGeom>
          <a:ln w="0">
            <a:noFill/>
          </a:ln>
        </p:spPr>
      </p:pic>
    </p:spTree>
  </p:cSld>
  <p:transition advTm="2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38080" y="692280"/>
            <a:ext cx="3927600" cy="540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rza prova consisteva nel ballare Gagnanm Style su un letto di chiodi e Palmiro fu talmente bravo, che sembrava un ballerino provetto. </a:t>
            </a:r>
            <a:endParaRPr b="0" lang="en-US" sz="2800" spc="-1" strike="noStrike">
              <a:solidFill>
                <a:srgbClr val="000000"/>
              </a:solidFill>
              <a:latin typeface="Arial"/>
            </a:endParaRPr>
          </a:p>
        </p:txBody>
      </p:sp>
      <p:pic>
        <p:nvPicPr>
          <p:cNvPr id="121" name="Picture 7" descr="palmiro008"/>
          <p:cNvPicPr/>
          <p:nvPr/>
        </p:nvPicPr>
        <p:blipFill>
          <a:blip r:embed="rId1"/>
          <a:stretch/>
        </p:blipFill>
        <p:spPr>
          <a:xfrm>
            <a:off x="4917960" y="2571840"/>
            <a:ext cx="3927600" cy="2855880"/>
          </a:xfrm>
          <a:prstGeom prst="rect">
            <a:avLst/>
          </a:prstGeom>
          <a:ln w="0">
            <a:noFill/>
          </a:ln>
        </p:spPr>
      </p:pic>
    </p:spTree>
  </p:cSld>
  <p:transition advTm="2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837720" y="333000"/>
            <a:ext cx="8007480" cy="5762520"/>
          </a:xfrm>
          <a:prstGeom prst="rect">
            <a:avLst/>
          </a:prstGeom>
          <a:noFill/>
          <a:ln w="0">
            <a:noFill/>
          </a:ln>
        </p:spPr>
        <p:txBody>
          <a:bodyPr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ome era da prevedere Palmiro vinse il primo premio, una cifra considerevole, che gli permise di continuare il suo viaggio verso Cucas.  </a:t>
            </a:r>
            <a:endParaRPr b="0" lang="en-US" sz="2000" spc="-1" strike="noStrike">
              <a:solidFill>
                <a:srgbClr val="000000"/>
              </a:solidFill>
              <a:latin typeface="Arial"/>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Dopo diversi giorni arrivò a Cucas e andò all'ufficio dell'anagrafe per cambiare il suo nome e realizzare il sogno dei suoi amati genitori, che gli mancavano tanto.</a:t>
            </a:r>
            <a:endParaRPr b="0" lang="en-US" sz="2000" spc="-1" strike="noStrike">
              <a:solidFill>
                <a:srgbClr val="000000"/>
              </a:solidFill>
              <a:latin typeface="Arial"/>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receptionist disse: “Buongiorno ragazzo, di cosa hai bisogno?”. Palmiro rispose. “Buongiorno  anche a lei,  io mi chiamo Palmiro vorrei cambiare il mio nome”. La receptionist sbalordita disse: “Non ho mai ricevuto una richiesta simile, ma non lo sai  che qui è tradizione chiamare i bambini maschi con la desinenza  -IRO?”. Allora Palmiro disse: “ Perché questa tradizione? Ad Admitar il nome Palmiro mi ha procurato solo un sacco di guai!”. La ragazza rispose: “Ti racconto una storia. C'era una volta a Cucas una famiglia povera che ebbe un unico figlio maschio e lo chiamò Ciro. Quando diventò grande la sua sfortuna era immensa, era buono, ma anche brutto e maldestro, tanto da farlo diventare lo zimbello della città. Ma un giorno avvenne un miracolo: Ciro incontrò la regina di Cucas, Elena, e i due inspiegabilmente si innamorarono, anche se lui era effettivamente di un aspetto quasi ripugnante. Dopo un breve fidanzamento si sposarono.  In questo modo Ciro diventò re di Cucas. Ciro fu un re giusto e saggio, fu la fortuna dei cittadini di Cucas. Da quel momento tutti in città vollero chiamarsi con la desinenza -IRO”.</a:t>
            </a:r>
            <a:endParaRPr b="0" lang="en-US" sz="2000" spc="-1" strike="noStrike">
              <a:solidFill>
                <a:srgbClr val="000000"/>
              </a:solidFill>
              <a:latin typeface="Arial"/>
            </a:endParaRPr>
          </a:p>
        </p:txBody>
      </p:sp>
    </p:spTree>
  </p:cSld>
  <p:transition advTm="2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94920" y="260280"/>
            <a:ext cx="8007480" cy="4191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lmiro era sbalordito per la storia che aveva appena ascoltato, ma anche indeciso e confuso su quello che doveva fare. Ormai aveva perso i suoi genitori a causa di Ivo il terribile: era solo in un paese che non conosceva  più, senza i genitori e con un nome e un destino da fachiro che gli avevano procurato un sacco di gua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po averci pensato un po’ su, Palmiro decise di chiedere consiglio al saggio del vicino villaggio, chiamato da tutti “Narada il saggio”, che viveva nel palazzo di Jiada. </a:t>
            </a:r>
            <a:endParaRPr b="0" lang="en-US" sz="2400" spc="-1" strike="noStrike">
              <a:solidFill>
                <a:srgbClr val="000000"/>
              </a:solidFill>
              <a:latin typeface="Arial"/>
            </a:endParaRPr>
          </a:p>
        </p:txBody>
      </p:sp>
      <p:pic>
        <p:nvPicPr>
          <p:cNvPr id="124" name="Picture 4" descr="palmiro003"/>
          <p:cNvPicPr/>
          <p:nvPr/>
        </p:nvPicPr>
        <p:blipFill>
          <a:blip r:embed="rId1"/>
          <a:stretch/>
        </p:blipFill>
        <p:spPr>
          <a:xfrm>
            <a:off x="4788000" y="4005360"/>
            <a:ext cx="3384360" cy="2386080"/>
          </a:xfrm>
          <a:prstGeom prst="rect">
            <a:avLst/>
          </a:prstGeom>
          <a:ln w="0">
            <a:noFill/>
          </a:ln>
        </p:spPr>
      </p:pic>
    </p:spTree>
  </p:cSld>
  <p:transition advTm="2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404280"/>
            <a:ext cx="8007480" cy="56912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arada, sorpreso per l’arrivo inaspettato di questo strano ragazzo, ascoltò con attenzione la storia di Palmiro  e poi gli disse: “Cosa vuoi realmente ragazzo mio?” Palmiro rispose. “Caro saggio, vorrei essere una persona normale per rispettare la memoria dei  miei genitori adottivi. C'è un rimedio per me?”.  Narada rispose: “Se è veramente ciò che desideri, ho una ricetta che ti aiuterà: basta che ti procuri i seguenti  ingredienti: cinque occhi di rana, cenere di pipistrello, dieci code di topo ed tre etti di escrementi di gatto. Con questi farai la pozione magica che ti renderà normale, ma ricordati che devi pensarci bene, perché con la pozione perderai parte di ciò che sei e che non potrai più recuperare. Quindi pensaci  ragazzo mio, prima di bere la pozione aspetta almeno sette  giorni. Visto che sei solo ti ospiterò volentieri a casa mi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lmiro si trovò molto bene al palazzo di Jiada, finalmente si sentiva al sicuro, anche la sua tendenza al fachiraggio non gli sembrava poi così male. Il terzo giorno, mentre giocava con le carte in giardino, incontrò una bellissima ragazza, la bella Gabriella, la principessa di Pitinat, un paesino oltre le valli dell'isola che non c'è. </a:t>
            </a:r>
            <a:endParaRPr b="0" lang="en-US" sz="2000" spc="-1" strike="noStrike">
              <a:solidFill>
                <a:srgbClr val="000000"/>
              </a:solidFill>
              <a:latin typeface="Arial"/>
            </a:endParaRPr>
          </a:p>
        </p:txBody>
      </p:sp>
    </p:spTree>
  </p:cSld>
  <p:transition advTm="2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859280" y="0"/>
            <a:ext cx="3927600" cy="5835600"/>
          </a:xfrm>
          <a:prstGeom prst="rect">
            <a:avLst/>
          </a:prstGeom>
          <a:noFill/>
          <a:ln w="0">
            <a:noFill/>
          </a:ln>
        </p:spPr>
        <p:txBody>
          <a:bodyPr anchor="t">
            <a:normAutofit fontScale="95000"/>
          </a:bodyPr>
          <a:p>
            <a:pPr marL="325800" indent="-325800" algn="ctr">
              <a:lnSpc>
                <a:spcPct val="8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lmiro la vide e, folgorato dalla sua bellezza, andò da lei e iniziò a fare amicizia, ma ebbe paura di dirle che era un fachiro, temendo che lei non lo apprezzasse. Chiacchieravano giorno e notte, finché si innamorarono l'una dell'altro. </a:t>
            </a:r>
            <a:endParaRPr b="0" lang="en-US" sz="1600" spc="-1" strike="noStrike">
              <a:solidFill>
                <a:srgbClr val="000000"/>
              </a:solidFill>
              <a:latin typeface="Arial"/>
            </a:endParaRPr>
          </a:p>
          <a:p>
            <a:pPr marL="325800" indent="-325800" algn="ctr">
              <a:lnSpc>
                <a:spcPct val="8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lmiro era un ragazzo molto sincero, così  all’alba del sesto giorno disse a Gabriella: “Prima che tu dica qualsiasi cosa, io ti devo fare una confessione che mi costa molto. Io sono un orfano, sono stato adottato da genitori che mi hanno molto amato, ma sono morti, non ho nulla da offrirti e in più….. sono un fachiro! Di questo aspetto, però, non devi preoccuparti, perché il saggio Narada mi ha preparato una pozione magica che mi guarirà”. </a:t>
            </a:r>
            <a:endParaRPr b="0" lang="en-US" sz="1600" spc="-1" strike="noStrike">
              <a:solidFill>
                <a:srgbClr val="000000"/>
              </a:solidFill>
              <a:latin typeface="Arial"/>
            </a:endParaRPr>
          </a:p>
          <a:p>
            <a:pPr marL="325800" indent="-325800" algn="ctr">
              <a:lnSpc>
                <a:spcPct val="8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abriella non fu per nulla turbata da queste notizie, anzi disse: “Sei veramente un fachiro?  Io adoro i fachiri, li ho sempre trovati degli uomini straordinari, ma soprattutto tu mi piaci così come sei e non voglio cambiarti per nulla al mondo”.</a:t>
            </a:r>
            <a:endParaRPr b="0" lang="en-US" sz="1600" spc="-1" strike="noStrike">
              <a:solidFill>
                <a:srgbClr val="000000"/>
              </a:solidFill>
              <a:latin typeface="Arial"/>
            </a:endParaRPr>
          </a:p>
          <a:p>
            <a:pPr marL="325800" indent="-325800" algn="ctr">
              <a:lnSpc>
                <a:spcPct val="80000"/>
              </a:lnSpc>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nozze furono celebrate nel palazzo di Jiada, adornato con molti bellissimi fiori. </a:t>
            </a:r>
            <a:endParaRPr b="0" lang="en-US" sz="1600" spc="-1" strike="noStrike">
              <a:solidFill>
                <a:srgbClr val="000000"/>
              </a:solidFill>
              <a:latin typeface="Arial"/>
            </a:endParaRPr>
          </a:p>
        </p:txBody>
      </p:sp>
      <p:pic>
        <p:nvPicPr>
          <p:cNvPr id="127" name="Picture 7" descr="palmiro009"/>
          <p:cNvPicPr/>
          <p:nvPr/>
        </p:nvPicPr>
        <p:blipFill>
          <a:blip r:embed="rId1"/>
          <a:stretch/>
        </p:blipFill>
        <p:spPr>
          <a:xfrm>
            <a:off x="957240" y="1960560"/>
            <a:ext cx="3689280" cy="4078440"/>
          </a:xfrm>
          <a:prstGeom prst="rect">
            <a:avLst/>
          </a:prstGeom>
          <a:ln w="0">
            <a:noFill/>
          </a:ln>
        </p:spPr>
      </p:pic>
    </p:spTree>
  </p:cSld>
  <p:transition advTm="2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3927600" cy="4191120"/>
          </a:xfrm>
          <a:prstGeom prst="rect">
            <a:avLst/>
          </a:prstGeom>
          <a:noFill/>
          <a:ln w="0">
            <a:noFill/>
          </a:ln>
        </p:spPr>
        <p:txBody>
          <a:bodyPr anchor="t">
            <a:normAutofit/>
          </a:bodyPr>
          <a:p>
            <a:pPr marL="343080" indent="-34308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lmiro era talmente felice nella sua nuova vita con questa sposa stupenda, che durante il banchetto non seppe contenersi e al taglio della torta,  mangiò per prima cosa la statuetta di ceramica che stava in cima alla torta come decorazione,  poi si esibì in acrobazie con spade e coltelli davanti a tutti gli invitati divertiti. </a:t>
            </a:r>
            <a:endParaRPr b="0" lang="en-US" sz="2000" spc="-1" strike="noStrike">
              <a:solidFill>
                <a:srgbClr val="000000"/>
              </a:solidFill>
              <a:latin typeface="Arial"/>
            </a:endParaRPr>
          </a:p>
          <a:p>
            <a:pPr marL="343080" indent="-343080">
              <a:lnSpc>
                <a:spcPct val="9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upo perde il pelo ma non il vizio!</a:t>
            </a:r>
            <a:endParaRPr b="0" lang="en-US" sz="2000" spc="-1" strike="noStrike">
              <a:solidFill>
                <a:srgbClr val="000000"/>
              </a:solidFill>
              <a:latin typeface="Arial"/>
            </a:endParaRPr>
          </a:p>
        </p:txBody>
      </p:sp>
      <p:pic>
        <p:nvPicPr>
          <p:cNvPr id="129" name="Picture 7" descr="palmiro010"/>
          <p:cNvPicPr/>
          <p:nvPr/>
        </p:nvPicPr>
        <p:blipFill>
          <a:blip r:embed="rId1"/>
          <a:stretch/>
        </p:blipFill>
        <p:spPr>
          <a:xfrm>
            <a:off x="5651640" y="476280"/>
            <a:ext cx="3155760" cy="3673440"/>
          </a:xfrm>
          <a:prstGeom prst="rect">
            <a:avLst/>
          </a:prstGeom>
          <a:ln w="0">
            <a:noFill/>
          </a:ln>
        </p:spPr>
      </p:pic>
      <p:pic>
        <p:nvPicPr>
          <p:cNvPr id="130" name="Picture 11" descr="palmiro012"/>
          <p:cNvPicPr/>
          <p:nvPr/>
        </p:nvPicPr>
        <p:blipFill>
          <a:blip r:embed="rId2"/>
          <a:stretch/>
        </p:blipFill>
        <p:spPr>
          <a:xfrm>
            <a:off x="2771640" y="4365720"/>
            <a:ext cx="3600720" cy="2492280"/>
          </a:xfrm>
          <a:prstGeom prst="rect">
            <a:avLst/>
          </a:prstGeom>
          <a:ln w="0">
            <a:noFill/>
          </a:ln>
        </p:spPr>
      </p:pic>
    </p:spTree>
  </p:cSld>
  <p:transition advTm="2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838080" y="260280"/>
            <a:ext cx="3662640" cy="6408720"/>
          </a:xfrm>
          <a:prstGeom prst="rect">
            <a:avLst/>
          </a:prstGeom>
          <a:noFill/>
          <a:ln w="0">
            <a:noFill/>
          </a:ln>
        </p:spPr>
        <p:txBody>
          <a:bodyPr anchor="t">
            <a:normAutofit/>
          </a:bodyPr>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oui Adala</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ruffaldi Riccardo</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runo Zoè</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maschi Francesco</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ancello Elena</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ertonani Affini Mattia</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nardi Elena</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bbi Filippo</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ied Ines</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za Grasiela</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tii Ayoub</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zzali Nicole</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testia Alessandro</a:t>
            </a:r>
            <a:endParaRPr b="0" lang="en-US" sz="2400" spc="-1" strike="noStrike">
              <a:solidFill>
                <a:srgbClr val="000000"/>
              </a:solidFill>
              <a:latin typeface="Arial"/>
            </a:endParaRPr>
          </a:p>
          <a:p>
            <a:pPr marL="609480" indent="-6094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132" name="Picture 6" descr="IMG_0300"/>
          <p:cNvPicPr/>
          <p:nvPr/>
        </p:nvPicPr>
        <p:blipFill>
          <a:blip r:embed="rId1"/>
          <a:stretch/>
        </p:blipFill>
        <p:spPr>
          <a:xfrm>
            <a:off x="4917960" y="2533680"/>
            <a:ext cx="3927600" cy="2933640"/>
          </a:xfrm>
          <a:prstGeom prst="rect">
            <a:avLst/>
          </a:prstGeom>
          <a:ln w="0">
            <a:noFill/>
          </a:ln>
        </p:spPr>
      </p:pic>
    </p:spTree>
  </p:cSld>
  <p:transition advTm="2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rush Script Std"/>
              </a:rPr>
              <a:t>La scelta di Palmiro</a:t>
            </a:r>
            <a:endParaRPr b="1" lang="en-US" sz="4400" spc="-1" strike="noStrike">
              <a:solidFill>
                <a:srgbClr val="000000"/>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iaba tratta da Palmiro, un nome da fachiro di Matteo Bergamo</a:t>
            </a:r>
            <a:endParaRPr b="0" lang="en-US" sz="3200" spc="-1" strike="noStrike">
              <a:solidFill>
                <a:srgbClr val="000000"/>
              </a:solidFill>
              <a:latin typeface="Arial"/>
            </a:endParaRPr>
          </a:p>
        </p:txBody>
      </p:sp>
    </p:spTree>
  </p:cSld>
  <p:transition advTm="2000">
    <p:random/>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0">
                                  <p:stCondLst>
                                    <p:cond delay="0"/>
                                  </p:stCondLst>
                                  <p:childTnLst>
                                    <p:set>
                                      <p:cBhvr>
                                        <p:cTn id="12" dur="1" fill="hold">
                                          <p:stCondLst>
                                            <p:cond delay="0"/>
                                          </p:stCondLst>
                                        </p:cTn>
                                        <p:tgtEl>
                                          <p:spTgt spid="101"/>
                                        </p:tgtEl>
                                        <p:attrNameLst>
                                          <p:attrName>style.visibility</p:attrName>
                                        </p:attrNameLst>
                                      </p:cBhvr>
                                      <p:to>
                                        <p:strVal val="visible"/>
                                      </p:to>
                                    </p:set>
                                    <p:animEffect filter="fade" transition="in">
                                      <p:cBhvr additive="repl">
                                        <p:cTn id="13" dur="2000"/>
                                        <p:tgtEl>
                                          <p:spTgt spid="101"/>
                                        </p:tgtEl>
                                      </p:cBhvr>
                                    </p:animEffect>
                                  </p:childTnLst>
                                </p:cTn>
                              </p:par>
                              <p:par>
                                <p:cTn id="14" nodeType="withEffect" fill="hold" presetClass="entr" presetID="10">
                                  <p:stCondLst>
                                    <p:cond delay="0"/>
                                  </p:stCondLst>
                                  <p:childTnLst>
                                    <p:set>
                                      <p:cBhvr>
                                        <p:cTn id="15" dur="1" fill="hold">
                                          <p:stCondLst>
                                            <p:cond delay="0"/>
                                          </p:stCondLst>
                                        </p:cTn>
                                        <p:tgtEl>
                                          <p:spTgt spid="102"/>
                                        </p:tgtEl>
                                        <p:attrNameLst>
                                          <p:attrName>style.visibility</p:attrName>
                                        </p:attrNameLst>
                                      </p:cBhvr>
                                      <p:to>
                                        <p:strVal val="visible"/>
                                      </p:to>
                                    </p:set>
                                    <p:animEffect filter="fade" transition="in">
                                      <p:cBhvr additive="repl">
                                        <p:cTn id="16"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8" descr="IMG_0314"/>
          <p:cNvPicPr/>
          <p:nvPr/>
        </p:nvPicPr>
        <p:blipFill>
          <a:blip r:embed="rId1"/>
          <a:stretch/>
        </p:blipFill>
        <p:spPr>
          <a:xfrm>
            <a:off x="395280" y="260280"/>
            <a:ext cx="5065560" cy="3783240"/>
          </a:xfrm>
          <a:prstGeom prst="rect">
            <a:avLst/>
          </a:prstGeom>
          <a:ln w="0">
            <a:noFill/>
          </a:ln>
        </p:spPr>
      </p:pic>
      <p:pic>
        <p:nvPicPr>
          <p:cNvPr id="134" name="Picture 9" descr="IMG_0296"/>
          <p:cNvPicPr/>
          <p:nvPr/>
        </p:nvPicPr>
        <p:blipFill>
          <a:blip r:embed="rId2"/>
          <a:stretch/>
        </p:blipFill>
        <p:spPr>
          <a:xfrm>
            <a:off x="6156360" y="189000"/>
            <a:ext cx="2703600" cy="2019240"/>
          </a:xfrm>
          <a:prstGeom prst="rect">
            <a:avLst/>
          </a:prstGeom>
          <a:ln w="0">
            <a:noFill/>
          </a:ln>
        </p:spPr>
      </p:pic>
      <p:pic>
        <p:nvPicPr>
          <p:cNvPr id="135" name="Picture 10" descr="IMG_0313"/>
          <p:cNvPicPr/>
          <p:nvPr/>
        </p:nvPicPr>
        <p:blipFill>
          <a:blip r:embed="rId3"/>
          <a:stretch/>
        </p:blipFill>
        <p:spPr>
          <a:xfrm>
            <a:off x="5724360" y="3618000"/>
            <a:ext cx="3206880" cy="3240000"/>
          </a:xfrm>
          <a:prstGeom prst="rect">
            <a:avLst/>
          </a:prstGeom>
          <a:ln w="0">
            <a:noFill/>
          </a:ln>
        </p:spPr>
      </p:pic>
    </p:spTree>
  </p:cSld>
  <p:transition advTm="2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826560" y="259920"/>
            <a:ext cx="8007480" cy="604836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la lontana città di Abmitar, capitale dello stato del Maimar, secondo una antica tradizione se ad un neonato viene dato un nome che finisce in “iro” questi diviene automaticamente un fachiro. Il caso più emblematico fu quello del celeberrimo Casimiro, il quale prosperò nell’arte di sputafuoco e ingoiaspade fino a quando fu costretto a trasferirsi all’estero a causa della crisi globale che colpì anche il settore dei carboni ardenti e dei produttori di letti di chiodi. La gente allora cominciò a chiamare i propri bambini con qualsiasi nome purchè non finisse in “iro” per paura che crescendo, questi rimanessero senza lavoro. Tornarono di moda anche i nomi più inconsueti e forestieri come: Sinibaldo, Cangrande, Crocefissa, Shannon, Mortimer e Wanda. Tutto pur di non chiamare il proprio figlio con un nome tipo: Ciro, Ramiro, Vladimiro o uno di quegli altri bellissimi nomi che hanno questa desinenza… </a:t>
            </a:r>
            <a:endParaRPr b="0" lang="en-US" sz="2400" spc="-1" strike="noStrike">
              <a:solidFill>
                <a:srgbClr val="000000"/>
              </a:solidFill>
              <a:latin typeface="Arial"/>
            </a:endParaRPr>
          </a:p>
        </p:txBody>
      </p:sp>
    </p:spTree>
  </p:cSld>
  <p:transition advTm="2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000" y="333000"/>
            <a:ext cx="8007480" cy="633564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giorno  però, due attempati coniugi di Abmitar di nome Gina e Antonio, che si amavano tantissimo, ma non potevano avere figli, decisero di adottare un bambino.  Dopo molti anni di attesa, arrivò a casa loro Palmiro, un dolcissimo bambino che veniva dall'orfanotrofio della lontana cittadina di Cucas, un paese della Russia centrale. I genitori furono felicissimi, perché volevano assolutamente un figlio, anche a costo che lui da grande rischiasse di diventare un fachiro. Palmiro si abituò molto bene nella nuova casa, con i genitori adottivi: aveva solo un piccolo difetto, durante le notti  doveva sempre rosicchiare qualcosa: pezzetti di legno, ferro, piatti, bicchieri etc...</a:t>
            </a:r>
            <a:endParaRPr b="0" lang="en-US" sz="2400" spc="-1" strike="noStrike">
              <a:solidFill>
                <a:srgbClr val="000000"/>
              </a:solidFill>
              <a:latin typeface="Arial"/>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ssarono gli anni e Palmiro cresceva e diventava sempre più bello, ma purtroppo non smentiva l’antica tradizione, infatti continuava a svegliarsi quasi tutte le notti, cercando qualcosa di anomalo da mettere sotto i denti. Palmiro non voleva mangiare gli oggetti di casa sua, perché era molto grato e molto affezionato ai suoi genitori, ma non riuscendo a resistere,  spesso sgattaiolava nella casa del vicino Ivo, che era molto cattivo.</a:t>
            </a:r>
            <a:endParaRPr b="0" lang="en-US" sz="2400" spc="-1" strike="noStrike">
              <a:solidFill>
                <a:srgbClr val="000000"/>
              </a:solidFill>
              <a:latin typeface="Arial"/>
            </a:endParaRPr>
          </a:p>
        </p:txBody>
      </p:sp>
    </p:spTree>
  </p:cSld>
  <p:transition advTm="2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917960" y="333000"/>
            <a:ext cx="3927600" cy="57625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vo infatti era gobbo, strabico, nevrotico, aveva l'herpes che non andava mai via, una barba lunghissima, spesso sporca di gorgonzola e pancetta e quando parlava alcune consonanti se ne andavano in vacanza, oltretutto aveva i pidocchi e dei brufoli gialli. Ivo era inoltre anche molto geloso e odiava i suoi vicini, perché molto tempo prima Gina era stata la sua fidanzata. Ivo infatti da giovane non era così orrendo, ma invecchiando era diventato brutto e scontroso,  a causa della perdita del  suo grande amore. Così quando Gina si sposò con Antonio, la vendetta di Ivo “il terribile” cominciò. </a:t>
            </a:r>
            <a:endParaRPr b="0" lang="en-US" sz="2000" spc="-1" strike="noStrike">
              <a:solidFill>
                <a:srgbClr val="000000"/>
              </a:solidFill>
              <a:latin typeface="Arial"/>
            </a:endParaRPr>
          </a:p>
        </p:txBody>
      </p:sp>
      <p:pic>
        <p:nvPicPr>
          <p:cNvPr id="106" name="Picture 10" descr="palmiro001"/>
          <p:cNvPicPr/>
          <p:nvPr/>
        </p:nvPicPr>
        <p:blipFill>
          <a:blip r:embed="rId1"/>
          <a:stretch/>
        </p:blipFill>
        <p:spPr>
          <a:xfrm>
            <a:off x="684360" y="189000"/>
            <a:ext cx="3927240" cy="3146400"/>
          </a:xfrm>
          <a:prstGeom prst="rect">
            <a:avLst/>
          </a:prstGeom>
          <a:ln w="0">
            <a:noFill/>
          </a:ln>
        </p:spPr>
      </p:pic>
      <p:sp>
        <p:nvSpPr>
          <p:cNvPr id="107" name="Text Box 12"/>
          <p:cNvSpPr/>
          <p:nvPr/>
        </p:nvSpPr>
        <p:spPr>
          <a:xfrm>
            <a:off x="250920" y="3429000"/>
            <a:ext cx="4465440" cy="2922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ssarono gli anni e Palmiro cresceva e diventava sempre più bello, ma purtroppo non smentiva l’antica tradizione, infatti continuava a svegliarsi quasi tutte le notti, cercando qualcosa di anomalo da mettere sotto i denti. Palmiro non voleva mangiare gli oggetti di casa sua, perché era molto grato e molto affezionato ai suoi genitori, ma non riuscendo a resistere,  spesso sgattaiolava nella casa del vicino Ivo, che era molto cat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211640" y="189000"/>
            <a:ext cx="3927600" cy="5775120"/>
          </a:xfrm>
          <a:prstGeom prst="rect">
            <a:avLst/>
          </a:prstGeom>
          <a:noFill/>
          <a:ln w="0">
            <a:noFill/>
          </a:ln>
        </p:spPr>
        <p:txBody>
          <a:bodyPr anchor="t">
            <a:normAutofit fontScale="94000"/>
          </a:bodyPr>
          <a:p>
            <a:pPr marL="322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loro vita di vicini di casa era rattristata ogni giorno da tanti piccoli dispetti: Ivo invidioso  distruggeva le aiuole di fiori piantate da Gina, il suo cane andava a scavare e a fare i bisogni nell'orto di Antonio e così via.</a:t>
            </a:r>
            <a:endParaRPr b="0" lang="en-US" sz="1800" spc="-1" strike="noStrike">
              <a:solidFill>
                <a:srgbClr val="000000"/>
              </a:solidFill>
              <a:latin typeface="Arial"/>
            </a:endParaRPr>
          </a:p>
          <a:p>
            <a:pPr marL="322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nni passavano e Palmiro era ormai un giovane ragazzo e aveva sempre respirato in casa l'odio per il vicino, così tutte le notti per ripicca andava nella casa di Ivo a combinare guai.</a:t>
            </a:r>
            <a:endParaRPr b="0" lang="en-US" sz="1800" spc="-1" strike="noStrike">
              <a:solidFill>
                <a:srgbClr val="000000"/>
              </a:solidFill>
              <a:latin typeface="Arial"/>
            </a:endParaRPr>
          </a:p>
          <a:p>
            <a:pPr marL="322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vo si svegliava al mattino e vedeva la casa sottosopra: un giorno, scoprì che qualcuno aveva mangiato il vetro della cornice contenente l'unica foto di Ivo e Gina insieme e questo lo fece impazzire dalla rabbia. Scoperto il colpevole, Ivo furibondo decise di riferire il tutto ai genitori di Palmiro. Gina e Antonio si arrabbiarono molto con il proprio figlio, anche perché in casa sembrava un ragazzino normale, però decisero di dargli un’altra possibilità.</a:t>
            </a:r>
            <a:endParaRPr b="0" lang="en-US" sz="1800" spc="-1" strike="noStrike">
              <a:solidFill>
                <a:srgbClr val="000000"/>
              </a:solidFill>
              <a:latin typeface="Arial"/>
            </a:endParaRPr>
          </a:p>
        </p:txBody>
      </p:sp>
      <p:pic>
        <p:nvPicPr>
          <p:cNvPr id="109" name="Picture 7" descr="palmiro011"/>
          <p:cNvPicPr/>
          <p:nvPr/>
        </p:nvPicPr>
        <p:blipFill>
          <a:blip r:embed="rId1"/>
          <a:stretch/>
        </p:blipFill>
        <p:spPr>
          <a:xfrm>
            <a:off x="539640" y="907920"/>
            <a:ext cx="3803760" cy="5559480"/>
          </a:xfrm>
          <a:prstGeom prst="rect">
            <a:avLst/>
          </a:prstGeom>
          <a:ln w="0">
            <a:noFill/>
          </a:ln>
        </p:spPr>
      </p:pic>
    </p:spTree>
  </p:cSld>
  <p:transition advTm="2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838080" y="189000"/>
            <a:ext cx="3927600" cy="648000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tempo dopo a pranzo, Gina preparò la pizza, il piatto preferito di Palmiro, ma il ragazzo la buttò fuori dalla finestra  e mangiò solo i cocci del piatto. </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ituazione era  diventata insostenibile: per quanto Gina e Antonio amassero Palmiro, decisero, tristi e sconsolati,  di cambiargli il nome, perché non sopportavano più che il loro figlio fosse un fachiro e volevano che diventasse un ragazzo normale.</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d Abmitar non si poteva cambiare il nome di un bambino nato in un altro paese, quindi i genitori radunarono le loro cose e si misero in viaggio verso Cucas. Per arrivarci dovevano attraversare il terribile deserto di  Sabadù, dove se ti perdi, non ti trovano mai più! </a:t>
            </a:r>
            <a:endParaRPr b="0" lang="en-US" sz="2000" spc="-1" strike="noStrike">
              <a:solidFill>
                <a:srgbClr val="000000"/>
              </a:solidFill>
              <a:latin typeface="Arial"/>
            </a:endParaRPr>
          </a:p>
        </p:txBody>
      </p:sp>
      <p:pic>
        <p:nvPicPr>
          <p:cNvPr id="111" name="Picture 7" descr="Palmiro002"/>
          <p:cNvPicPr/>
          <p:nvPr/>
        </p:nvPicPr>
        <p:blipFill>
          <a:blip r:embed="rId1"/>
          <a:stretch/>
        </p:blipFill>
        <p:spPr>
          <a:xfrm>
            <a:off x="4917960" y="2616120"/>
            <a:ext cx="3927600" cy="2768760"/>
          </a:xfrm>
          <a:prstGeom prst="rect">
            <a:avLst/>
          </a:prstGeom>
          <a:ln w="0">
            <a:noFill/>
          </a:ln>
        </p:spPr>
      </p:pic>
    </p:spTree>
  </p:cSld>
  <p:transition advTm="2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23640" y="0"/>
            <a:ext cx="3073320" cy="6337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ma di partire, Palmiro però volle andare per l'ultima volta da Ivo, per fare uno spuntino. Mangiò il telecomando della tv con tanto di pile e fili elettrici ed un piccolo microcip per la localizzazione, che Ivo aveva inserito stanco di passare ore a cercare il telecomando per cas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ndo la piccola famiglia arrivò nel deserto di Sabadù, Ivo riuscì a rintracciarli grazie al microcip ingoiato da Palmiro. Ivo senza la presenza di Gina vicino era ormai sempre più disperato, tanto che decise di mettersi anche lui in marcia e raggiungerli per  portare a termine la sua folle missione: uccidere il suo rivale d'amore: Antonio. </a:t>
            </a:r>
            <a:endParaRPr b="0" lang="en-US" sz="1800" spc="-1" strike="noStrike">
              <a:solidFill>
                <a:srgbClr val="000000"/>
              </a:solidFill>
              <a:latin typeface="Arial"/>
            </a:endParaRPr>
          </a:p>
        </p:txBody>
      </p:sp>
      <p:pic>
        <p:nvPicPr>
          <p:cNvPr id="113" name="Picture 7" descr="palmiro001"/>
          <p:cNvPicPr/>
          <p:nvPr/>
        </p:nvPicPr>
        <p:blipFill>
          <a:blip r:embed="rId1"/>
          <a:stretch/>
        </p:blipFill>
        <p:spPr>
          <a:xfrm>
            <a:off x="4917960" y="2427120"/>
            <a:ext cx="3927600" cy="3146760"/>
          </a:xfrm>
          <a:prstGeom prst="rect">
            <a:avLst/>
          </a:prstGeom>
          <a:ln w="0">
            <a:noFill/>
          </a:ln>
        </p:spPr>
      </p:pic>
    </p:spTree>
  </p:cSld>
  <p:transition advTm="2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837720" y="333000"/>
            <a:ext cx="8007480" cy="5762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sì Ivo dopo molti giorni di cammino raggiunse i suoi sventurati vicini e di notte prese due serpenti velenosi e li mise dentro la tenda di Antonio, che venne ucciso dal loro morso. Palmiro svegliato dall'urlo del padre, prese il flauto che portava sempre con sé e con il suono melodioso della sua musica, incantò i due serpenti, riuscendo a farsi seguire lontano dalla tend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ntre Palmiro stava suonando, Ivo entrò nella tenda e rapì Gina.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2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1T08:06:17Z</dcterms:created>
  <dc:creator>ROAD-PC</dc:creator>
  <dc:description/>
  <dc:language>en-US</dc:language>
  <cp:lastModifiedBy>Daniel Boccacci</cp:lastModifiedBy>
  <dcterms:modified xsi:type="dcterms:W3CDTF">2013-12-08T11:30:35Z</dcterms:modified>
  <cp:revision>6</cp:revision>
  <dc:subject/>
  <dc:title>C’er@ una volta  esperienze di scrittura multimediale</dc:title>
</cp:coreProperties>
</file>