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58D84-81DD-4F6F-90EF-0A2F82564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1F760-A046-48E4-BC8A-E77BFB090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10A3F-251D-4492-94BA-323ECB8F5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0502D-9D64-4D98-B53A-914FC92F0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E6492-4516-4448-8A37-CF4DEAA23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665CD-BF85-4D60-9052-E8298C1AD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A0466-1912-491F-848F-A13FC6CF6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0C3D6-710D-4664-9FAF-82342BC82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78C2F-C376-4318-92D1-BFFFC8CAF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3ACE2-C8B5-485B-842B-6F87D8E04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60428-5C05-41A4-A3B5-5ECD920C2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C8ECD-BEAE-4E2D-9ED6-C41868982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DD9CE-2C9D-44CE-B5BE-019D7D9BB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F74A8-920D-4DA4-A328-A0976D496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9495B-17BC-4C7D-832E-D74FBECE0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2F45B-FDD2-4C5D-A8DC-8E940A5FA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E325C-C59A-4F74-8CE7-687AB2A2B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52315-087A-4863-B99D-1E6F8C611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B7F00-9DFD-4F06-9AB5-C52315CBC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63A4A-C236-46D6-978C-C69A974B5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9944C-0E92-4003-85FC-D04310143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34CCD-AE65-46C6-AD81-40430E2DF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8CB04-053F-4E35-9FDE-5255B50F7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A581-253A-4E4C-973E-B2D26D607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0CB3-6622-43B0-BAE3-ED0CA4102528}"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C85A-DF7B-4E68-9ADD-4A338876F815}" type="slidenum">
              <a:rPr b="0" lang="it-IT"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278100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7d47d"/>
                </a:solidFill>
                <a:latin typeface="Arial"/>
              </a:rPr>
              <a:t>IA Sorbolo</a:t>
            </a:r>
            <a:endParaRPr b="0" lang="en-US" sz="4000" spc="-1" strike="noStrike">
              <a:solidFill>
                <a:srgbClr val="f7d47d"/>
              </a:solidFill>
              <a:latin typeface="Arial"/>
            </a:endParaRPr>
          </a:p>
        </p:txBody>
      </p:sp>
      <p:sp>
        <p:nvSpPr>
          <p:cNvPr id="193" name="PlaceHolder 2"/>
          <p:cNvSpPr>
            <a:spLocks noGrp="1"/>
          </p:cNvSpPr>
          <p:nvPr>
            <p:ph type="subTitle"/>
          </p:nvPr>
        </p:nvSpPr>
        <p:spPr>
          <a:xfrm>
            <a:off x="1403280" y="450864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rPr>
              <a:t>2012-2013</a:t>
            </a:r>
            <a:endParaRPr b="0" lang="en-US" sz="3200" spc="-1" strike="noStrike">
              <a:solidFill>
                <a:srgbClr val="2f1311"/>
              </a:solidFill>
              <a:latin typeface="Arial"/>
            </a:endParaRPr>
          </a:p>
        </p:txBody>
      </p:sp>
      <p:pic>
        <p:nvPicPr>
          <p:cNvPr id="194" name="Picture 4" descr="slide"/>
          <p:cNvPicPr/>
          <p:nvPr/>
        </p:nvPicPr>
        <p:blipFill>
          <a:blip r:embed="rId1"/>
          <a:stretch/>
        </p:blipFill>
        <p:spPr>
          <a:xfrm>
            <a:off x="0" y="0"/>
            <a:ext cx="9144000" cy="2657520"/>
          </a:xfrm>
          <a:prstGeom prst="rect">
            <a:avLst/>
          </a:prstGeom>
          <a:ln w="0">
            <a:noFill/>
          </a:ln>
        </p:spPr>
      </p:pic>
      <p:pic>
        <p:nvPicPr>
          <p:cNvPr id="195" name="Passerella sul sentiero dei fiori. Video con base musicale da veri eroi!!!!!!!.mp3" descr=""/>
          <p:cNvPicPr/>
          <p:nvPr/>
        </p:nvPicPr>
        <p:blipFill>
          <a:blip r:embed="rId2"/>
          <a:stretch/>
        </p:blipFill>
        <p:spPr>
          <a:xfrm>
            <a:off x="5450040" y="5823000"/>
            <a:ext cx="304560" cy="304920"/>
          </a:xfrm>
          <a:prstGeom prst="rect">
            <a:avLst/>
          </a:prstGeom>
          <a:ln w="0">
            <a:noFill/>
          </a:ln>
        </p:spPr>
      </p:pic>
    </p:spTree>
  </p:cSld>
  <p:transition advTm="3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78920" y="404280"/>
            <a:ext cx="7386840" cy="4497480"/>
          </a:xfrm>
          <a:prstGeom prst="rect">
            <a:avLst/>
          </a:prstGeom>
          <a:noFill/>
          <a:ln w="0">
            <a:noFill/>
          </a:ln>
        </p:spPr>
        <p:txBody>
          <a:bodyPr anchor="t">
            <a:normAutofit fontScale="90000"/>
          </a:bodyPr>
          <a:p>
            <a:pPr marL="308520" indent="-308520" algn="ctr">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Tornai al solito canale e senza farmi vedere uscii dal villaggio.</a:t>
            </a:r>
            <a:endParaRPr b="0" lang="en-US" sz="1800" spc="-1" strike="noStrike">
              <a:solidFill>
                <a:srgbClr val="2f1311"/>
              </a:solidFill>
              <a:latin typeface="Arial"/>
            </a:endParaRPr>
          </a:p>
          <a:p>
            <a:pPr marL="308520" indent="-308520" algn="ctr">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Dentro al libro c’era ancora la mappa di mio padre che disegnò lui stesso per ricordarsi delle strade esterne al villaggio. La controllai molte volte per trovare la caverna Mille Ori. All’inizio camminai senza problemi, ma dopo cinque minuti trovai rovine e macerie di un vecchio castello, che faceva parte di un altro paese. I resti rallentarono il mio ritmo di marcia: c’erano mattoni, tele, pezzi di tavolo e molto altro… Avevo camminato per cinque ore quando giunse il buio. Ero molto stanca, pensavo che la cascata fosse più vicina, ma, guardando la carta di mio padre, capii che non avevo percorso neanche un quarto del tragitto. La mia mente era occupata da due pensieri che non facevano altro che bisticciare e combattere fra di loro. Uno diceva: “Laura PENSA! I sogni sono solamente frutto della tua fantasia, non era tuo padre che ti parlava, non era nessuno, questo viaggio non ha senso. Torna indietro! E' solo pericoloso; tua madre, tua sorella, tutti saranno preoccupati per te! Non essere incosciente, hai disubbidito a tua madre, già piena zeppa di problemi, ma anche a tutti quelli del villaggio diventati tristi e impauriti per la tua scomparsa! Invece di migliorare la situazione, la stai peggiorando, non aiuti chi difende il paese! Il male sta per entrare, per superare le mura, sopprimendo il bene, e se non ti affretti, quando tornerai, il villaggio e tutti i suoi abitanti saranno già sotto gli atroci comandi del Male!! Guida la tua mente, non farti trasportare!! PENSA!!!”</a:t>
            </a:r>
            <a:endParaRPr b="0" lang="en-US" sz="1800" spc="-1" strike="noStrike">
              <a:solidFill>
                <a:srgbClr val="2f1311"/>
              </a:solidFill>
              <a:latin typeface="Arial"/>
            </a:endParaRPr>
          </a:p>
        </p:txBody>
      </p:sp>
    </p:spTree>
  </p:cSld>
  <p:transition advTm="3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178920" y="404280"/>
            <a:ext cx="7386840" cy="4497480"/>
          </a:xfrm>
          <a:prstGeom prst="rect">
            <a:avLst/>
          </a:prstGeom>
          <a:noFill/>
          <a:ln w="0">
            <a:noFill/>
          </a:ln>
        </p:spPr>
        <p:txBody>
          <a:bodyPr anchor="t">
            <a:normAutofit fontScale="88000"/>
          </a:bodyPr>
          <a:p>
            <a:pPr marL="301680" indent="-301680" algn="ctr">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L' altro pensiero, invece, mi diceva: “Continua il viaggio! Non fermarti, tu sola potrai salvare il villaggio, ascolta tuo padre, non essere disubbidiente, non pensare se a casa saranno tristi per te, perché tu lo stai facendo per il bene di tutti loro! Svela ciò che tu sei realmente, non intimidirti, segui il tuo istinto, fatti valere, non arrenderti, aiuta gli amici, segui tuo padre e prendi coraggio ragazza dai mille pensieri e dalle mille idee! Supera gli ostacoli e raggiungi il tuo obiettivo, non farti ingannare! Tuo padre, nei tuoi primi anni di vita, diceva sempre di seguire i tuoi sogni, ma di realizzarli usando la mente lucida.”</a:t>
            </a:r>
            <a:endParaRPr b="0" lang="en-US" sz="1800" spc="-1" strike="noStrike">
              <a:solidFill>
                <a:srgbClr val="2f1311"/>
              </a:solidFill>
              <a:latin typeface="Arial"/>
            </a:endParaRPr>
          </a:p>
          <a:p>
            <a:pPr marL="301680" indent="-301680" algn="ctr">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Era sera, non lo sapevo bene l’orario preciso, quando trovai una protuberanza nella roccia, sotto alla quale mi sarei accampata per la notte scura. Per prima cosa appoggiai lo zaino e tutto ciò che mi aveva reso il viaggio più complesso e pesante. Mi sentivo il corpo leggero e riuscivo a muovermi molto più agilmente. Senza perdere tempo stesi uno spesso e largo tappetino di paglia a terra, un oggetto realizzato con le dolci mani dell’artigiano Todi, un vecchio e carissimo amico del mio amato papà. Sopra ad esso ci aprii un telo, sopra ancora una morbidissima coperta e ancora un cuscino; di fianco ad esso stesi due altre coperte. Il letto era completo.</a:t>
            </a:r>
            <a:endParaRPr b="0" lang="en-US" sz="1800" spc="-1" strike="noStrike">
              <a:solidFill>
                <a:srgbClr val="2f1311"/>
              </a:solidFill>
              <a:latin typeface="Arial"/>
            </a:endParaRPr>
          </a:p>
          <a:p>
            <a:pPr marL="301680" indent="-301680" algn="ctr">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Poi predisposi il resto della mia mini-casa: cibo, di cui disponevo di una buona scorta, vestiti, il  diario, il libro, la mappa. Nel frattempo fame e stanchezza erano aumentate. Allora mi sedetti a gambe incrociate sul terzo tappetino, aprii lo zaino, da esso presi dell’acqua e un grosso panino</a:t>
            </a:r>
            <a:endParaRPr b="0" lang="en-US" sz="1800" spc="-1" strike="noStrike">
              <a:solidFill>
                <a:srgbClr val="2f1311"/>
              </a:solidFill>
              <a:latin typeface="Arial"/>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transition advTm="3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2f1311"/>
              </a:solidFill>
              <a:latin typeface="Arial"/>
            </a:endParaRPr>
          </a:p>
        </p:txBody>
      </p:sp>
      <p:pic>
        <p:nvPicPr>
          <p:cNvPr id="211" name="Picture 4" descr="compito"/>
          <p:cNvPicPr/>
          <p:nvPr/>
        </p:nvPicPr>
        <p:blipFill>
          <a:blip r:embed="rId1"/>
          <a:stretch/>
        </p:blipFill>
        <p:spPr>
          <a:xfrm>
            <a:off x="755640" y="1773360"/>
            <a:ext cx="5707080" cy="3859200"/>
          </a:xfrm>
          <a:prstGeom prst="rect">
            <a:avLst/>
          </a:prstGeom>
          <a:ln w="0">
            <a:noFill/>
          </a:ln>
        </p:spPr>
      </p:pic>
    </p:spTree>
  </p:cSld>
  <p:transition advTm="3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178920" y="593280"/>
            <a:ext cx="7326360" cy="6264360"/>
          </a:xfrm>
          <a:prstGeom prst="rect">
            <a:avLst/>
          </a:prstGeom>
          <a:noFill/>
          <a:ln w="0">
            <a:noFill/>
          </a:ln>
        </p:spPr>
        <p:txBody>
          <a:bodyPr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f1311"/>
                </a:solidFill>
                <a:latin typeface="Arial"/>
                <a:ea typeface="宋体"/>
              </a:rPr>
              <a:t>imbottito di prosciutto crudo. Gnam-Gnam! “Che buono!” Mi dissi. Lo mangiai velocemente. Al termine avevo ancora fame, ma non volevo rischiare di rimanere senza cibo, visto che alla fine del viaggio mancava ancora molto, così decisi di andare a dormire, non ne potevo più della stanchezza che mi appesantiva sempre più, perciò mi stesi sul letto. Non riuscii subito ad addormentarmi perché mi tormentavano mille pensieri. Avevo paura di non riuscire a trovare la cascata, di non tornare a casa, di non rivedere mai più mia madre, mia sorella e tutti i miei amici. Non sapevo se ero veramente una prescelta o la mia mente aveva prodotto una semplice fantasia. Sentivo strani rumori, forse di uccelli o di leoni.</a:t>
            </a:r>
            <a:endParaRPr b="0" lang="en-US" sz="1400" spc="-1" strike="noStrike">
              <a:solidFill>
                <a:srgbClr val="2f1311"/>
              </a:solidFill>
              <a:latin typeface="Arial"/>
            </a:endParaRPr>
          </a:p>
          <a:p>
            <a:pPr marL="343080" indent="-3430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f1311"/>
                </a:solidFill>
                <a:latin typeface="Arial"/>
                <a:ea typeface="宋体"/>
              </a:rPr>
              <a:t>Non ce la facevo più a rimanere ferma nel letto senza dormire, con i pensieri e con i rumori; così mi sedetti, presi il diario e iniziai a scrivere l’avventura che stavo vivendo. Dopo circa un’ora mi addormentai di colpo senza accorgermene.</a:t>
            </a:r>
            <a:endParaRPr b="0" lang="en-US" sz="1400" spc="-1" strike="noStrike">
              <a:solidFill>
                <a:srgbClr val="2f1311"/>
              </a:solidFill>
              <a:latin typeface="Arial"/>
            </a:endParaRPr>
          </a:p>
          <a:p>
            <a:pPr marL="343080" indent="-34308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f1311"/>
                </a:solidFill>
                <a:latin typeface="Arial"/>
                <a:ea typeface="宋体"/>
              </a:rPr>
              <a:t>Durante la notte feci un sogno simile ai due precedenti. In esso c’era sempre mio padre che usciva dal buio e io venivo illuminata da un raggio di luce, mentre lui mi diceva: “Figlia mia, brava! Hai fatto ciò che ti avevo detto, ma non hai ancora completato il viaggio. Ti do un consiglio: in caso di difficoltà apri il libro ch ti darà la soluzione. Non ti posso dire altro, solamente che devi continuare il viaggio. Non tirarti indietro.”</a:t>
            </a:r>
            <a:endParaRPr b="0" lang="en-US" sz="1400" spc="-1" strike="noStrike">
              <a:solidFill>
                <a:srgbClr val="2f1311"/>
              </a:solidFill>
              <a:latin typeface="Arial"/>
            </a:endParaRPr>
          </a:p>
          <a:p>
            <a:pPr marL="343080" indent="-34308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f1311"/>
                </a:solidFill>
                <a:latin typeface="Arial"/>
                <a:ea typeface="宋体"/>
              </a:rPr>
              <a:t>Il sole mi svegliò, mi alzai, feci colazione, preparai lo zaino e continuai il viaggio.</a:t>
            </a:r>
            <a:endParaRPr b="0" lang="en-US" sz="1400" spc="-1" strike="noStrike">
              <a:solidFill>
                <a:srgbClr val="2f1311"/>
              </a:solidFill>
              <a:latin typeface="Arial"/>
            </a:endParaRPr>
          </a:p>
          <a:p>
            <a:pPr marL="343080" indent="-3430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f1311"/>
                </a:solidFill>
                <a:latin typeface="Arial"/>
                <a:ea typeface="宋体"/>
              </a:rPr>
              <a:t>Passò un giorno, un altro, e un altro ancora in cui oltrepassai fiumi, laghi, colline, montagne e cascate che mi facevano credere di aver terminato il viaggio.</a:t>
            </a:r>
            <a:endParaRPr b="0" lang="en-US" sz="1400" spc="-1" strike="noStrike">
              <a:solidFill>
                <a:srgbClr val="2f1311"/>
              </a:solidFill>
              <a:latin typeface="Arial"/>
            </a:endParaRPr>
          </a:p>
          <a:p>
            <a:pPr marL="343080" indent="-34308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f1311"/>
                </a:solidFill>
                <a:latin typeface="Arial"/>
                <a:ea typeface="宋体"/>
              </a:rPr>
              <a:t>Dopo quattro giorni in cui molte difficoltà rallentarono il passo vidi finalmente in lontananza la cascata Mille ori che brillava con la sua acqua dorata. Che splendore!!! Ero felicissima! Avevo ascoltato mio padre, avevo raggiunto il mio obbiettivo e mi sentivo certa di salvare il villaggio! Iniziai a correre, a correre, a correre più forte che potei. Sentivo che qualcosa dagli zaini mi cadeva, ma non mi fermavo a guardare.</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p:transition advTm="3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178920" y="259920"/>
            <a:ext cx="7458120" cy="6048360"/>
          </a:xfrm>
          <a:prstGeom prst="rect">
            <a:avLst/>
          </a:prstGeom>
          <a:noFill/>
          <a:ln w="0">
            <a:noFill/>
          </a:ln>
        </p:spPr>
        <p:txBody>
          <a:bodyPr anchor="t">
            <a:normAutofit/>
          </a:bodyPr>
          <a:p>
            <a:pPr marL="343080" indent="-343080" algn="ctr">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Dopo pochi minuti  arrivai  di fronte alla cascata. Avevo gli occhi lucidi dall’emozione, ma non persi tempo, mi tolsi gli zaini, mi tuffai nel lago e… da quel punto non ricordo più niente.</a:t>
            </a:r>
            <a:endParaRPr b="0" lang="en-US" sz="1800" spc="-1" strike="noStrike">
              <a:solidFill>
                <a:srgbClr val="2f1311"/>
              </a:solidFill>
              <a:latin typeface="Arial"/>
            </a:endParaRPr>
          </a:p>
          <a:p>
            <a:pPr marL="343080" indent="-343080" algn="ctr">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Mi riaffiorano immagini dell’avventura quando avevo in mano una grossa pietra luminosa di un rosso brillante. Ero fuori dalla grotta, ma non riuscii a guardarmi in torno che mi ritrovai al centro della piazza del villaggio. Avevo in mano sempre quella pietra che emanava un grosso bagliore. </a:t>
            </a:r>
            <a:endParaRPr b="0" lang="en-US" sz="1800" spc="-1" strike="noStrike">
              <a:solidFill>
                <a:srgbClr val="2f1311"/>
              </a:solidFill>
              <a:latin typeface="Arial"/>
            </a:endParaRPr>
          </a:p>
          <a:p>
            <a:pPr marL="343080" indent="-343080" algn="ctr">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Ad un certo punto i miei occhi videro la verità su quel viaggio e il suo motivo. Capii tutto, il perché della mia vita, di quel viaggio e della morte di papà; ed è in quel momento che mi trovai nel mio adorato letto, nella tranquilla casa dove mia mamma e mia sorella mi stavano accanto aspettando il mio risveglio. Mi mancavano molto ed ero felice di rivederle, ma non mi lasciarono il tempo di abbracciarle che mi presero in braccio. Esse, senza dirmi niente, mi portarono in piazza dove tutte le perone del villaggio mi stavano aspettando, dopo aver preparato una mega festa in onore di Laura, “l’eroina del villaggio, salvezza della felicità”, quelle erano le parole scritte sul nastro appeso fra due alberi. Lì c’erano tavole imbandite di cibi. Ogni abitante ne aveva preparato un piatto e lo aveva portato. Poi c’erano musiche e danze. Si respirava un’atmosfera di euforia per essere di nuovo insieme, in pace. Ce l’avevo fatta, avevo completato la missione e adesso nelle menti degli abitanti non c’erano brutti pensieri, solamente gioia, gentilezza e felicità.</a:t>
            </a:r>
            <a:endParaRPr b="0" lang="en-US" sz="1800" spc="-1" strike="noStrike">
              <a:solidFill>
                <a:srgbClr val="2f1311"/>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transition advTm="3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DSC06569"/>
          <p:cNvPicPr/>
          <p:nvPr/>
        </p:nvPicPr>
        <p:blipFill>
          <a:blip r:embed="rId1"/>
          <a:stretch/>
        </p:blipFill>
        <p:spPr>
          <a:xfrm>
            <a:off x="0" y="692280"/>
            <a:ext cx="7189920" cy="5392440"/>
          </a:xfrm>
          <a:prstGeom prst="rect">
            <a:avLst/>
          </a:prstGeom>
          <a:ln w="0">
            <a:noFill/>
          </a:ln>
        </p:spPr>
      </p:pic>
    </p:spTree>
  </p:cSld>
  <p:transition advTm="3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11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1311"/>
                </a:solidFill>
                <a:latin typeface="Arial"/>
                <a:ea typeface="宋体"/>
              </a:rPr>
              <a:t> </a:t>
            </a:r>
            <a:r>
              <a:rPr b="0" lang="it-IT" sz="4400" spc="-1" strike="noStrike">
                <a:solidFill>
                  <a:srgbClr val="2f1311"/>
                </a:solidFill>
                <a:latin typeface="Chaparral Pro Light"/>
                <a:ea typeface="宋体"/>
              </a:rPr>
              <a:t>Crema Valentina</a:t>
            </a:r>
            <a:endParaRPr b="0" lang="en-US" sz="4400" spc="-1" strike="noStrike">
              <a:solidFill>
                <a:srgbClr val="2f1311"/>
              </a:solidFill>
              <a:latin typeface="Arial"/>
            </a:endParaRPr>
          </a:p>
          <a:p>
            <a:pPr marL="343080" indent="-343080">
              <a:lnSpc>
                <a:spcPct val="10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f1311"/>
                </a:solidFill>
                <a:latin typeface="Chaparral Pro Light"/>
                <a:ea typeface="宋体"/>
              </a:rPr>
              <a:t>Licata Giorgia</a:t>
            </a:r>
            <a:endParaRPr b="0" lang="en-US" sz="4400" spc="-1" strike="noStrike">
              <a:solidFill>
                <a:srgbClr val="2f1311"/>
              </a:solidFill>
              <a:latin typeface="Arial"/>
            </a:endParaRPr>
          </a:p>
          <a:p>
            <a:pPr marL="3430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f1311"/>
                </a:solidFill>
                <a:latin typeface="Chaparral Pro Light"/>
                <a:ea typeface="宋体"/>
              </a:rPr>
              <a:t>Morini Alessia</a:t>
            </a:r>
            <a:endParaRPr b="0" lang="en-US" sz="4400" spc="-1" strike="noStrike">
              <a:solidFill>
                <a:srgbClr val="2f1311"/>
              </a:solidFill>
              <a:latin typeface="Arial"/>
            </a:endParaRPr>
          </a:p>
          <a:p>
            <a:pPr marL="343080" indent="-343080">
              <a:lnSpc>
                <a:spcPct val="100000"/>
              </a:lnSpc>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f1311"/>
                </a:solidFill>
                <a:latin typeface="Chaparral Pro Light"/>
                <a:ea typeface="宋体"/>
              </a:rPr>
              <a:t>Picardi Sara</a:t>
            </a:r>
            <a:endParaRPr b="0" lang="en-US" sz="4400" spc="-1" strike="noStrike">
              <a:solidFill>
                <a:srgbClr val="2f1311"/>
              </a:solidFill>
              <a:latin typeface="Arial"/>
            </a:endParaRPr>
          </a:p>
        </p:txBody>
      </p:sp>
      <p:pic>
        <p:nvPicPr>
          <p:cNvPr id="216" name="Picture 4" descr="DSC06735"/>
          <p:cNvPicPr/>
          <p:nvPr/>
        </p:nvPicPr>
        <p:blipFill>
          <a:blip r:embed="rId5"/>
          <a:stretch/>
        </p:blipFill>
        <p:spPr>
          <a:xfrm>
            <a:off x="3564000" y="3789360"/>
            <a:ext cx="3840120" cy="2879640"/>
          </a:xfrm>
          <a:prstGeom prst="rect">
            <a:avLst/>
          </a:prstGeom>
          <a:ln w="0">
            <a:noFill/>
          </a:ln>
        </p:spPr>
      </p:pic>
    </p:spTree>
  </p:cSld>
  <p:transition advTm="3000">
    <p:random/>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4" presetSubtype="2">
                                  <p:stCondLst>
                                    <p:cond delay="0"/>
                                  </p:stCondLst>
                                  <p:childTnLst>
                                    <p:anim calcmode="lin" valueType="num" to="1.5">
                                      <p:cBhvr additive="repl">
                                        <p:cTn id="12" dur="2000" fill="hold"/>
                                        <p:tgtEl>
                                          <p:spTgt spid="215">
                                            <p:txEl>
                                              <p:pRg st="0" end="0"/>
                                            </p:txEl>
                                          </p:spTgt>
                                        </p:tgtEl>
                                        <p:attrNameLst>
                                          <p:attrName>style.fontSize</p:attrName>
                                        </p:attrNameLst>
                                      </p:cBhvr>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mph" presetID="4" presetSubtype="2">
                                  <p:stCondLst>
                                    <p:cond delay="0"/>
                                  </p:stCondLst>
                                  <p:childTnLst>
                                    <p:anim calcmode="lin" valueType="num" to="1.5">
                                      <p:cBhvr additive="repl">
                                        <p:cTn id="16" dur="2000" fill="hold"/>
                                        <p:tgtEl>
                                          <p:spTgt spid="215">
                                            <p:txEl>
                                              <p:pRg st="1" end="1"/>
                                            </p:txEl>
                                          </p:spTgt>
                                        </p:tgtEl>
                                        <p:attrNameLst>
                                          <p:attrName>style.fontSize</p:attrName>
                                        </p:attrNameLst>
                                      </p:cBhvr>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mph" presetID="4" presetSubtype="2">
                                  <p:stCondLst>
                                    <p:cond delay="0"/>
                                  </p:stCondLst>
                                  <p:childTnLst>
                                    <p:anim calcmode="lin" valueType="num" to="1.5">
                                      <p:cBhvr additive="repl">
                                        <p:cTn id="20" dur="2000" fill="hold"/>
                                        <p:tgtEl>
                                          <p:spTgt spid="215">
                                            <p:txEl>
                                              <p:pRg st="2" end="2"/>
                                            </p:txEl>
                                          </p:spTgt>
                                        </p:tgtEl>
                                        <p:attrNameLst>
                                          <p:attrName>style.fontSize</p:attrName>
                                        </p:attrNameLst>
                                      </p:cBhvr>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mph" presetID="4" presetSubtype="2">
                                  <p:stCondLst>
                                    <p:cond delay="0"/>
                                  </p:stCondLst>
                                  <p:childTnLst>
                                    <p:anim calcmode="lin" valueType="num" to="1.5">
                                      <p:cBhvr additive="repl">
                                        <p:cTn id="24" dur="2000" fill="hold"/>
                                        <p:tgtEl>
                                          <p:spTgt spid="215">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000" y="25992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7d47d"/>
                </a:solidFill>
                <a:latin typeface="Adobe Garamond Pro Bold"/>
              </a:rPr>
              <a:t>La prescelta</a:t>
            </a:r>
            <a:endParaRPr b="0" lang="en-US" sz="6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gn="ctr">
              <a:lnSpc>
                <a:spcPct val="100000"/>
              </a:lnSpc>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2f1311"/>
                </a:solidFill>
                <a:latin typeface="Charlemagne Std"/>
              </a:rPr>
              <a:t>Fiaba tratta da Nihiim di Uberto Ceretoli</a:t>
            </a:r>
            <a:endParaRPr b="0" lang="en-US" sz="4000" spc="-1" strike="noStrike">
              <a:solidFill>
                <a:srgbClr val="2f1311"/>
              </a:solidFill>
              <a:latin typeface="Arial"/>
            </a:endParaRPr>
          </a:p>
        </p:txBody>
      </p:sp>
    </p:spTree>
  </p:cSld>
  <p:transition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0" y="333000"/>
            <a:ext cx="7386480" cy="4497480"/>
          </a:xfrm>
          <a:prstGeom prst="rect">
            <a:avLst/>
          </a:prstGeom>
          <a:noFill/>
          <a:ln w="0">
            <a:noFill/>
          </a:ln>
        </p:spPr>
        <p:txBody>
          <a:bodyPr anchor="t">
            <a:normAutofit fontScale="90000"/>
          </a:bodyPr>
          <a:p>
            <a:pPr marL="308520" indent="-308520" algn="ctr">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f1311"/>
                </a:solidFill>
                <a:latin typeface="Arial"/>
                <a:ea typeface="宋体"/>
              </a:rPr>
              <a:t>Abito in un bel villaggio, situato in una valle ai piedi delle Cime Guzz, vicino a una scura palude.</a:t>
            </a:r>
            <a:endParaRPr b="0" lang="en-US" sz="2000" spc="-1" strike="noStrike">
              <a:solidFill>
                <a:srgbClr val="2f1311"/>
              </a:solidFill>
              <a:latin typeface="Arial"/>
            </a:endParaRPr>
          </a:p>
          <a:p>
            <a:pPr marL="308520" indent="-308520" algn="ctr">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f1311"/>
                </a:solidFill>
                <a:latin typeface="Arial"/>
                <a:ea typeface="宋体"/>
              </a:rPr>
              <a:t>L’abitato è protetto da alte mura, costruite tempo fa da tutti gli abitanti attraverso dei massi; prelevati da una lontana montagna, essi hanno uno speciale potere, quello di allontanare le creature malvagie: quando una forza maligna si avvicina, le pietre si illuminano di un bagliore color oro oppure di un rosso brillante, se il male è molto vicino.</a:t>
            </a:r>
            <a:endParaRPr b="0" lang="en-US" sz="2000" spc="-1" strike="noStrike">
              <a:solidFill>
                <a:srgbClr val="2f1311"/>
              </a:solidFill>
              <a:latin typeface="Arial"/>
            </a:endParaRPr>
          </a:p>
          <a:p>
            <a:pPr marL="308520" indent="-308520" algn="ctr">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f1311"/>
                </a:solidFill>
                <a:latin typeface="Arial"/>
                <a:ea typeface="宋体"/>
              </a:rPr>
              <a:t>Nel villaggio ci sono ricchi e poveri, ma la differenza è superflua, perché tutti si aiutano:  i secondi cercano di restituire quello che hanno ricevuto attraverso lavori manuali. Nel villaggio si può respirare la serenità, la gioia, la tranquillità e l’aiuto. Poco tempo fa, ad esempio, un canale era straripato, allagando una fattoria, ma subito la gente era arrivata in soccorso, trasformando il momento drammatico in un’esperienza di sostegno reciproco.</a:t>
            </a:r>
            <a:endParaRPr b="0" lang="en-US" sz="2000" spc="-1" strike="noStrike">
              <a:solidFill>
                <a:srgbClr val="2f1311"/>
              </a:solidFill>
              <a:latin typeface="Arial"/>
            </a:endParaRPr>
          </a:p>
          <a:p>
            <a:pPr marL="308520" indent="-308520" algn="ctr">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2f1311"/>
                </a:solidFill>
                <a:latin typeface="Arial"/>
                <a:ea typeface="宋体"/>
              </a:rPr>
              <a:t>La condivisione è visibile specialmente alla domenica, quando viene apparecchiata una lunga tavolata ricca di cibi prelibati e leccornie preparate da tutte le persone del villaggio presso una piazza decorata da fiori multicolori, ricolma di melodie meravigliose.</a:t>
            </a:r>
            <a:endParaRPr b="0" lang="en-US" sz="2000" spc="-1" strike="noStrike">
              <a:solidFill>
                <a:srgbClr val="2f1311"/>
              </a:solidFill>
              <a:latin typeface="Arial"/>
            </a:endParaRPr>
          </a:p>
        </p:txBody>
      </p:sp>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850920" y="333360"/>
            <a:ext cx="3941640" cy="6524640"/>
          </a:xfrm>
          <a:prstGeom prst="rect">
            <a:avLst/>
          </a:prstGeom>
          <a:noFill/>
          <a:ln w="0">
            <a:noFill/>
          </a:ln>
        </p:spPr>
        <p:txBody>
          <a:bodyPr anchor="t">
            <a:normAutofit/>
          </a:bodyPr>
          <a:p>
            <a:pPr marL="343080" indent="-343080" algn="ctr">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f1311"/>
                </a:solidFill>
                <a:latin typeface="Arial"/>
                <a:ea typeface="宋体"/>
              </a:rPr>
              <a:t>Io abito in questo splendido villaggio. Mi chiamo Laura, ho 13 anni e abito in una piccola casa vicino alle mura insieme alla mamma, di nome Anna, e mia sorella Asia di 18 anni. Mio padre è morto quando avevo soltanto 4 anni. Associo a lui soltanto la gioia della primissima infanzia e purtroppo anche la tristezza della sua morte. Per mia mamma è molto difficile stare senza di lui e ancor più mantenere me e mia sorella, ma, avendo persone così solidali intorno, gli ostacoli si superano.</a:t>
            </a:r>
            <a:endParaRPr b="0" lang="en-US" sz="1400" spc="-1" strike="noStrike">
              <a:solidFill>
                <a:srgbClr val="2f1311"/>
              </a:solidFill>
              <a:latin typeface="Arial"/>
            </a:endParaRPr>
          </a:p>
          <a:p>
            <a:pPr marL="343080" indent="-343080" algn="ctr">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f1311"/>
                </a:solidFill>
                <a:latin typeface="Arial"/>
                <a:ea typeface="宋体"/>
              </a:rPr>
              <a:t>A casa abbiamo tre campi e numerosissimi animali: cavalli, conigli, mucche, maiali, capre, galline e altri ancora.</a:t>
            </a:r>
            <a:endParaRPr b="0" lang="en-US" sz="1400" spc="-1" strike="noStrike">
              <a:solidFill>
                <a:srgbClr val="2f1311"/>
              </a:solidFill>
              <a:latin typeface="Arial"/>
            </a:endParaRPr>
          </a:p>
          <a:p>
            <a:pPr marL="343080" indent="-343080" algn="ctr">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f1311"/>
                </a:solidFill>
                <a:latin typeface="Arial"/>
                <a:ea typeface="宋体"/>
              </a:rPr>
              <a:t>Vicino a noi c’è l’abitazione del mio migliore amico, Marco, che ha la mia stessa età, e la sua meravigliosa famiglia: i suoi genitori, due fratelli gemelli di otto e la sua bellissima sorellina di due anni.</a:t>
            </a:r>
            <a:endParaRPr b="0" lang="en-US" sz="1400" spc="-1" strike="noStrike">
              <a:solidFill>
                <a:srgbClr val="2f1311"/>
              </a:solidFill>
              <a:latin typeface="Arial"/>
            </a:endParaRPr>
          </a:p>
          <a:p>
            <a:pPr marL="343080" indent="-343080" algn="ctr">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f1311"/>
                </a:solidFill>
                <a:latin typeface="Arial"/>
                <a:ea typeface="宋体"/>
              </a:rPr>
              <a:t>In questo villaggio le persone sono simpatiche: il fornaio detto Todoio, il pizzaiolo Vito, il fabbro Fabio e tute le altre.</a:t>
            </a:r>
            <a:endParaRPr b="0" lang="en-US" sz="1400" spc="-1" strike="noStrike">
              <a:solidFill>
                <a:srgbClr val="2f1311"/>
              </a:solidFill>
              <a:latin typeface="Arial"/>
            </a:endParaRPr>
          </a:p>
          <a:p>
            <a:pPr marL="343080" indent="-343080" algn="ctr">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f1311"/>
                </a:solidFill>
                <a:latin typeface="Arial"/>
                <a:ea typeface="宋体"/>
              </a:rPr>
              <a:t>Nel paese, tuttavia, è forte la paura che questa felicità termini come è iniziata. Proprio l’altra sera, mia mamma (come suo solito, alla fine della giornata mi ha racconta una storia) mi ha parlato della nostra origine e ho provato un po’ di paura.</a:t>
            </a:r>
            <a:endParaRPr b="0" lang="en-US" sz="1400" spc="-1" strike="noStrike">
              <a:solidFill>
                <a:srgbClr val="2f1311"/>
              </a:solidFill>
              <a:latin typeface="Arial"/>
            </a:endParaRPr>
          </a:p>
          <a:p>
            <a:pPr marL="343080" indent="-343080" algn="ctr">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f1311"/>
                </a:solidFill>
                <a:latin typeface="Arial"/>
                <a:ea typeface="宋体"/>
              </a:rPr>
              <a:t>Adesso la racconterò.</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pic>
        <p:nvPicPr>
          <p:cNvPr id="200" name="Picture 4" descr="disegno la prescelta 1"/>
          <p:cNvPicPr/>
          <p:nvPr/>
        </p:nvPicPr>
        <p:blipFill>
          <a:blip r:embed="rId7"/>
          <a:stretch/>
        </p:blipFill>
        <p:spPr>
          <a:xfrm>
            <a:off x="179280" y="476280"/>
            <a:ext cx="3978360" cy="5891040"/>
          </a:xfrm>
          <a:prstGeom prst="rect">
            <a:avLst/>
          </a:prstGeom>
          <a:ln w="0">
            <a:noFill/>
          </a:ln>
        </p:spPr>
      </p:pic>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68360" y="188640"/>
            <a:ext cx="6665760" cy="5878440"/>
          </a:xfrm>
          <a:prstGeom prst="rect">
            <a:avLst/>
          </a:prstGeom>
          <a:noFill/>
          <a:ln w="0">
            <a:noFill/>
          </a:ln>
        </p:spPr>
        <p:txBody>
          <a:bodyPr anchor="t">
            <a:normAutofit fontScale="93000"/>
          </a:bodyPr>
          <a:p>
            <a:pPr marL="318960" indent="-318960" algn="ctr">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ea typeface="宋体"/>
              </a:rPr>
              <a:t>In principio in questa terra regnava il male. Ogni persona aveva solo pensieri oscuri e tristi ed era sottomessa da tre demoni. Erano proprio loro a condizionare i sogni e la mente della gente togliendo ogni idea positiva. Non a caso le persone si facevano torti a vicenda. Nessuno si rendeva conto del male che si faceva danneggiando il proprio vicino.</a:t>
            </a:r>
            <a:endParaRPr b="0" lang="en-US" sz="1600" spc="-1" strike="noStrike">
              <a:solidFill>
                <a:srgbClr val="2f1311"/>
              </a:solidFill>
              <a:latin typeface="Arial"/>
            </a:endParaRPr>
          </a:p>
          <a:p>
            <a:pPr marL="318960" indent="-318960" algn="ctr">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ea typeface="宋体"/>
              </a:rPr>
              <a:t>Dopo tanto tempo, il bene inviato dall’Angelo Dorato è giunto in questo villaggio e, utilizzando una pietra rossa di origine sconosciuta, salvò gli abitanti.</a:t>
            </a:r>
            <a:endParaRPr b="0" lang="en-US" sz="1600" spc="-1" strike="noStrike">
              <a:solidFill>
                <a:srgbClr val="2f1311"/>
              </a:solidFill>
              <a:latin typeface="Arial"/>
            </a:endParaRPr>
          </a:p>
          <a:p>
            <a:pPr marL="318960" indent="-318960" algn="ctr">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ea typeface="宋体"/>
              </a:rPr>
              <a:t>Ma ritornò il male!</a:t>
            </a:r>
            <a:endParaRPr b="0" lang="en-US" sz="1600" spc="-1" strike="noStrike">
              <a:solidFill>
                <a:srgbClr val="2f1311"/>
              </a:solidFill>
              <a:latin typeface="Arial"/>
            </a:endParaRPr>
          </a:p>
          <a:p>
            <a:pPr marL="318960" indent="-318960" algn="ctr">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ea typeface="宋体"/>
              </a:rPr>
              <a:t>Un giorno, il cielo si oscurò, presagio di sventura. Tutti riparavano alla difesa: c’era chi prendeva spade, lance, scudi o i più impreparati utilizzavano ciò che avevano in casa, cioè forconi, coltelli, pentole, padelle, mestoli e tutto ciò che trovavano. Poi correvano sulle mura per avvistare i nemici  e per prepararsi all’attacco.</a:t>
            </a:r>
            <a:endParaRPr b="0" lang="en-US" sz="1600" spc="-1" strike="noStrike">
              <a:solidFill>
                <a:srgbClr val="2f1311"/>
              </a:solidFill>
              <a:latin typeface="Arial"/>
            </a:endParaRPr>
          </a:p>
          <a:p>
            <a:pPr marL="318960" indent="-318960" algn="ctr">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ea typeface="宋体"/>
              </a:rPr>
              <a:t>Dopo alcune decine di minuti si avvistarono degli esseri orribili, specie di uomini scorticati, poi dietro una schiera di fantasmi e dall’alto degli uccelli metà aquila e metà serpente. Quelli con l’ arco iniziarono a scoccare frecce gelate e infuocate preparate dal fabbro Todoio. Alex e Max, uomini molto forti andarono a chiudere le grandi porte rafforzandole con lastre di ferro e aste di legno. Tutti i bambini correvano all’ interno del nascondiglio fortificato sotto la grande scuola. Io non ci andai subito. Ritornai nella mia adorata casa per prendere le cose che mi stanno più a cuore: il mio diario, per scrivere gli avvenimenti nel nascondiglio e un libro che stavo leggendo sulla storia della mia valle. Dopo corsi a vedere se mia madre e mia sorella Asia stessero bene e, infine, mi rifugiai nel nascondiglio segreto, dove già tutti vi  erano entrati terrorizzati. Lì iniziai a leggere su un letto in un angolo. Dopo neanche un quarto d’ora mi addormentai e feci uno strano sogno, che ora racconto.</a:t>
            </a:r>
            <a:endParaRPr b="0" lang="en-US" sz="1600" spc="-1" strike="noStrike">
              <a:solidFill>
                <a:srgbClr val="2f1311"/>
              </a:solidFill>
              <a:latin typeface="Arial"/>
            </a:endParaRPr>
          </a:p>
        </p:txBody>
      </p:sp>
    </p:spTree>
  </p:cSld>
  <p:transition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716360" y="260280"/>
            <a:ext cx="2921040" cy="4641840"/>
          </a:xfrm>
          <a:prstGeom prst="rect">
            <a:avLst/>
          </a:prstGeom>
          <a:noFill/>
          <a:ln w="0">
            <a:noFill/>
          </a:ln>
        </p:spPr>
        <p:txBody>
          <a:bodyPr anchor="t">
            <a:normAutofit fontScale="87000"/>
          </a:bodyPr>
          <a:p>
            <a:pPr marL="298440" indent="-298440" algn="ctr">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f1311"/>
                </a:solidFill>
                <a:latin typeface="Arial"/>
                <a:ea typeface="宋体"/>
              </a:rPr>
              <a:t>Era tutto buio quando apparve un raggio di luce da dove comparve l’immagine del mio adorato papà. Volevo abbracciarlo, ma era come se non mi potessi muovere, poi disse: “Laura, figlia mia, ascoltami è importante! Tu sei la prescelta! Tu solo potrai salvare il villaggio se seguirai le mie indicazioni! La mamma ti ha raccontato la storia della nascita del villaggio, giusto?” “Sì, ma cosa dici? Adesso non importa quella storia! Voglio solo  che ritorni! Io la prescelta? Io devo salvare il villaggio? Non riesco proprio a capire! Spigami e rimani!” Il padre continuò deciso: “Non posso più rimanere, sono MORTO, ho già compiuto lo sbaglio! Adesso quello che importa è solamente che tu salvi il villaggio, visto che solamente tu puoi compiere quest’impresa! Dovrai superare le Cime Guzz, trovare la caverna che si trova sotto la cascata, detta Mille Ori. Per aprirla dovrai utilizzare un meccanismo che solo tu potrai scoprire, non posso rivelartelo perché non ne ho la conoscenza; dopo essere entrata…”        </a:t>
            </a:r>
            <a:endParaRPr b="0" lang="en-US" sz="1400" spc="-1" strike="noStrike">
              <a:solidFill>
                <a:srgbClr val="2f1311"/>
              </a:solidFill>
              <a:latin typeface="Arial"/>
            </a:endParaRPr>
          </a:p>
        </p:txBody>
      </p:sp>
      <p:pic>
        <p:nvPicPr>
          <p:cNvPr id="203" name="Picture 4" descr="disegno la prescelta 2"/>
          <p:cNvPicPr/>
          <p:nvPr/>
        </p:nvPicPr>
        <p:blipFill>
          <a:blip r:embed="rId2"/>
          <a:stretch/>
        </p:blipFill>
        <p:spPr>
          <a:xfrm>
            <a:off x="179280" y="326880"/>
            <a:ext cx="4695840" cy="6531120"/>
          </a:xfrm>
          <a:prstGeom prst="rect">
            <a:avLst/>
          </a:prstGeom>
          <a:ln w="0">
            <a:noFill/>
          </a:ln>
        </p:spPr>
      </p:pic>
    </p:spTree>
  </p:cSld>
  <p:transition advTm="3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63520" y="620280"/>
            <a:ext cx="7386480" cy="5475240"/>
          </a:xfrm>
          <a:prstGeom prst="rect">
            <a:avLst/>
          </a:prstGeom>
          <a:noFill/>
          <a:ln w="0">
            <a:noFill/>
          </a:ln>
        </p:spPr>
        <p:txBody>
          <a:bodyPr anchor="t">
            <a:normAutofit/>
          </a:bodyPr>
          <a:p>
            <a:pPr marL="343080" indent="-343080" algn="ctr">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All’improvviso il sogno si interruppe a causa di mia madre che, entrata nel nascondiglio, mi svegliò per sapere come stavo e se avevo preso paura per quell’arrivo improvviso di strane creature. Io ero un po’ turbata da quel sogno bizzarro, comunque cercai di riprendermi e risposi a tutte le domande di mia madre in modo positivo senza svelarle il contenuto di quello strano “incontro” con papà. Lei mi raccontò che cosa stava succedendo fuori: i mostri non si erano avvicinati molto perché i nostri uomini, per qualche tempo, li avevano impauriti. C’erano solamente due feriti, colpiti da delle palle di fuoco; ma, rientrati nel nascondiglio, tutti li curarono in modo da riuscire a tornare a combattere per allontanare i demoni.</a:t>
            </a:r>
            <a:endParaRPr b="0" lang="en-US" sz="1800" spc="-1" strike="noStrike">
              <a:solidFill>
                <a:srgbClr val="2f1311"/>
              </a:solidFill>
              <a:latin typeface="Arial"/>
            </a:endParaRPr>
          </a:p>
          <a:p>
            <a:pPr marL="343080" indent="-343080" algn="ctr">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Quando mia madre si allontanò per discutere con altre persone, ripensai al sogno e arrivai a una conclusione: era veramente mio papà! Però, sapendo che non mi avrebbe detto mai bugie, essere la prescelta mi spaventa! PARTIRO’ PER QUEST’AVVENTURA PER IL BENE DI TUTTI!!!</a:t>
            </a:r>
            <a:endParaRPr b="0" lang="en-US" sz="1800" spc="-1" strike="noStrike">
              <a:solidFill>
                <a:srgbClr val="2f1311"/>
              </a:solidFill>
              <a:latin typeface="Arial"/>
            </a:endParaRPr>
          </a:p>
          <a:p>
            <a:pPr marL="343080" indent="-343080" algn="ctr">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La notte seguente feci un altro sogno. Era presente sempre mio padre, che mi disse che prima di partire per la cascata mille ori dovevo rassicurare le persone del villaggio per meglio garantire la difesa; per questo compito dovevo partire subito per cercare una pietra in un’altra caverna non distante dal villaggio.   </a:t>
            </a:r>
            <a:endParaRPr b="0" lang="en-US" sz="1800" spc="-1" strike="noStrike">
              <a:solidFill>
                <a:srgbClr val="2f1311"/>
              </a:solidFill>
              <a:latin typeface="Arial"/>
            </a:endParaRPr>
          </a:p>
          <a:p>
            <a:pPr marL="343080" indent="-343080" algn="ctr">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f1311"/>
                </a:solidFill>
                <a:latin typeface="Arial"/>
                <a:ea typeface="宋体"/>
              </a:rPr>
              <a:t> </a:t>
            </a:r>
            <a:endParaRPr b="0" lang="en-US" sz="1800" spc="-1" strike="noStrike">
              <a:solidFill>
                <a:srgbClr val="2f1311"/>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1311"/>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1311"/>
              </a:solidFill>
              <a:latin typeface="Arial"/>
            </a:endParaRPr>
          </a:p>
        </p:txBody>
      </p:sp>
    </p:spTree>
  </p:cSld>
  <p:transition advTm="3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211640" y="260280"/>
            <a:ext cx="3456000" cy="6858000"/>
          </a:xfrm>
          <a:prstGeom prst="rect">
            <a:avLst/>
          </a:prstGeom>
          <a:noFill/>
          <a:ln w="0">
            <a:noFill/>
          </a:ln>
        </p:spPr>
        <p:txBody>
          <a:bodyPr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f1311"/>
                </a:solidFill>
                <a:latin typeface="Arial"/>
                <a:ea typeface="宋体"/>
              </a:rPr>
              <a:t>La mattina seguente mi preparai uno zaino nel quale misi tutto l’occorrente per il viaggio: provviste di cibo e acqua, un secchio dove contenere la sostanza e un particolare strumento simile ad un cucchiaio di legno con alcune parti in metallo per raccoglierla, il mio diario e il libro. Poi uscii dal nascondiglio utilizzando la scusa che andavo a prendere una cosa importante dimenticata a casa e loro mi credettero. Subito, corsi attraverso le vie fino ad arrivare all’entrata del canale che mi faceva uscire di nascosto in un piccolo boschetto dov’ero al riparo dalla guerra e da qualunque altro pericolo che poteva causare il MALE; la strada per quel lago la conoscevo abbastanza bene, si chiama Olio d’Argento. Sono arrivata un quarto d'ora dopo la partenza e perciò non ebbi bisogno che un sorso d'acqua per riprendere le energie. Appena arrivai cercai il luogo più fangoso, cioè quello in cui era più presente la sostanza. Trovatolo  mi inginocchiai, estrassi il secchio e lo strumento dallo zaino; dopodiché inizia accuratamente a raccoglierlo e sistemarlo delicatamente nel secchio: era un operazione che doveva essere svolta con molta precisione altrimenti l'effetto sarebbe diminuito. </a:t>
            </a:r>
            <a:endParaRPr b="0" lang="en-US" sz="1400" spc="-1" strike="noStrike">
              <a:solidFill>
                <a:srgbClr val="2f1311"/>
              </a:solidFill>
              <a:latin typeface="Arial"/>
            </a:endParaRPr>
          </a:p>
        </p:txBody>
      </p:sp>
      <p:pic>
        <p:nvPicPr>
          <p:cNvPr id="206" name="Picture 5" descr="disegno la prescelta 3"/>
          <p:cNvPicPr/>
          <p:nvPr/>
        </p:nvPicPr>
        <p:blipFill>
          <a:blip r:embed="rId2"/>
          <a:stretch/>
        </p:blipFill>
        <p:spPr>
          <a:xfrm>
            <a:off x="324000" y="333360"/>
            <a:ext cx="4125600" cy="5592600"/>
          </a:xfrm>
          <a:prstGeom prst="rect">
            <a:avLst/>
          </a:prstGeom>
          <a:ln w="0">
            <a:noFill/>
          </a:ln>
        </p:spPr>
      </p:pic>
    </p:spTree>
  </p:cSld>
  <p:transition advTm="3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0" y="475920"/>
            <a:ext cx="7386480" cy="4497480"/>
          </a:xfrm>
          <a:prstGeom prst="rect">
            <a:avLst/>
          </a:prstGeom>
          <a:noFill/>
          <a:ln w="0">
            <a:noFill/>
          </a:ln>
        </p:spPr>
        <p:txBody>
          <a:bodyPr anchor="t">
            <a:normAutofit fontScale="84000"/>
          </a:bodyPr>
          <a:p>
            <a:pPr marL="288000" indent="-288000" algn="ctr">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f1311"/>
                </a:solidFill>
                <a:latin typeface="Arial"/>
                <a:ea typeface="宋体"/>
              </a:rPr>
              <a:t>Dopo più di tre ore di lavoro il secchio era pieno, perciò riposi lo strumento che avevo utilizzato nello zaino, mi alzai e presi senza sbattere troppo il secchio. Fu un lungo, lento viaggio, quello di ritorno perché dovetti camminare attentamente e lentamente per non rovinare la sostanza. Molto probabilmente, era inizio pomeriggio, quando passai dal canaletto e andai a nascondere il secchio in un cespuglio che si trovava in un angolo appartato del villaggio. Quando entrai nel nascondiglio, mia mamma si arrabbiò per il tempo che ero stata via ma si rese conto che non era il momento adatto per arrabbiarsi di un problema del genere e detto questo uscì per aiutare nelle difese. Dopodiché andai a riprendere il secchio e misi la sostanza, senza farmi notare, altrimenti erano problemi, in tutti i contenitori d’acqua che le donne portavano a quelli che combattevano per la difesa e ai bisognosi. Dopo dieci minuti che prendevo informazioni sulla situazione da Robert, che aveva fatto una pausa nella difesa per riaggiustare alcuni archi danneggiati da dei misteriosi poteri inviati dall'esercito del MALE, vidi alzarsi da alcune persone dei raggi, ciò spiegava che l'effetto aveva funzionato.</a:t>
            </a:r>
            <a:endParaRPr b="0" lang="en-US" sz="1600" spc="-1" strike="noStrike">
              <a:solidFill>
                <a:srgbClr val="2f1311"/>
              </a:solidFill>
              <a:latin typeface="Arial"/>
            </a:endParaRPr>
          </a:p>
          <a:p>
            <a:pPr marL="288000" indent="-288000" algn="ctr">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f1311"/>
                </a:solidFill>
                <a:latin typeface="Arial"/>
                <a:ea typeface="宋体"/>
              </a:rPr>
              <a:t>Ripresi lo zaino e misi all'interno oltre a quello che era già presente molte altre cose che mi sarebbero sicuramente servite nel mio prossimo viaggio che sarebbe stato molto ma molto più lungo e complicato. Con la scusa di trascorrere qualche giorno nella mia casa, andai dopo averlo detto a mia mamma, che mi fece molte raccomandazioni.</a:t>
            </a:r>
            <a:endParaRPr b="0" lang="en-US" sz="1600" spc="-1" strike="noStrike">
              <a:solidFill>
                <a:srgbClr val="2f1311"/>
              </a:solidFill>
              <a:latin typeface="Arial"/>
            </a:endParaRPr>
          </a:p>
          <a:p>
            <a:pPr marL="288000" indent="-288000" algn="ctr">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f1311"/>
                </a:solidFill>
                <a:latin typeface="Arial"/>
                <a:ea typeface="宋体"/>
              </a:rPr>
              <a:t>Quando stavo per superare il canaletto, qualcuno mi chiamò da  dietro: era il mio amico Marco, che mi disse: ”Laura, dove stai andando? E’ PERICOLOSO, SIAMO IN GUERRA!” Risposi: “Marco, non posso rimanere, ho una missione da compiere e se ti spiegassi il motivo non mi crederesti o comunque non mi capiresti. E’ una missione che ci salverà dal MALE! Adesso devo andare, NON DIR NIENTE A NESSUNO E, SE QUALCUNO TI CHIEDE DOVE SONO, TU DI’ CHE NON SAI NIENTE. MI RACCOMANDO, MI FIDO DI TE! CIAOOOO!” Infine Marco rispose: ”Prenditi cura di te, non ti preoccupare, il nostro segreto è al sicuro! CIAOOOOOO!”                                   </a:t>
            </a:r>
            <a:endParaRPr b="0" lang="en-US" sz="1600" spc="-1" strike="noStrike">
              <a:solidFill>
                <a:srgbClr val="2f1311"/>
              </a:solidFill>
              <a:latin typeface="Arial"/>
            </a:endParaRPr>
          </a:p>
          <a:p>
            <a:pPr marL="28800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p:transition advTm="3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18:39:38Z</dcterms:created>
  <dc:creator>ROAD-PC</dc:creator>
  <dc:description/>
  <dc:language>en-US</dc:language>
  <cp:lastModifiedBy>Daniel Boccacci</cp:lastModifiedBy>
  <dcterms:modified xsi:type="dcterms:W3CDTF">2013-12-08T11:32:12Z</dcterms:modified>
  <cp:revision>9</cp:revision>
  <dc:subject/>
  <dc:title>IA Sorbolo</dc:title>
</cp:coreProperties>
</file>