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2FA02-18C1-4462-A3E1-D82528E11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52077-B50C-476B-ADEF-A9E48D39D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5A7E1-A46C-4D5F-A5C7-9F0F9E474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56C83-09E3-4097-8332-56DA3F3FA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74C26-396B-44DB-A45E-A0C7FC0AF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996D1-A621-4B44-97B0-20BD6996B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BE1C5-B84E-41CD-AA99-0E56E5E69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17BFD-F11F-480B-A1A2-A4579FC74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DD9DD-B58C-435A-9859-FBF64C7E8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6E02E-4B29-47E2-B9E9-EC4E7A6A8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CCBBC-E6EB-419C-B449-7068C5410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7E79E-369E-4460-8FB3-B13ABB15F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1FE9C-6429-4A6D-9016-7FC813889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BF51E-8CD0-4BA7-B7D2-39A1F55FC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64549-8BA1-4621-831A-D9BCF6DE4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30E67-6836-4114-94F3-470497F17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44018-45FF-4AED-9355-24A5ECA69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5FA80-1DA7-4EE1-909F-306D91AE3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7521E-B23A-4D24-9B9D-C57EB65FE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DB323-3E73-48DA-9AB5-28DFB7BEA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975E0-C7F5-44F2-8A2B-E92ED9222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2777E-94C0-42CB-B6AB-F3DE67D74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15AF-14E3-48B1-A9D4-458668BFF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6568B-ACAD-44C1-AF83-CA4816F9B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C6C5C-A741-47FD-AE7D-06B1E77922B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1D5A-6E77-454F-B6F7-7A71BB9296A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32000" y="1916280"/>
            <a:ext cx="6400800" cy="22730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omic Sans MS"/>
              </a:rPr>
              <a:t>C’er@ una volta</a:t>
            </a:r>
            <a:br>
              <a:rPr sz="4400"/>
            </a:br>
            <a:r>
              <a:rPr b="0" lang="it-IT" sz="4400" spc="-1" strike="noStrike">
                <a:solidFill>
                  <a:srgbClr val="ff0000"/>
                </a:solidFill>
                <a:latin typeface="Comic Sans MS"/>
              </a:rPr>
              <a:t>esperienze di scrittura multimediale</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402920" y="5589360"/>
            <a:ext cx="6032520" cy="10033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cuola media di Mezzani</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B</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012-2013</a:t>
            </a:r>
            <a:endParaRPr b="0" lang="en-US" sz="2000" spc="-1" strike="noStrike">
              <a:solidFill>
                <a:srgbClr val="000000"/>
              </a:solidFill>
              <a:latin typeface="Comic Sans MS"/>
            </a:endParaRPr>
          </a:p>
        </p:txBody>
      </p:sp>
      <p:pic>
        <p:nvPicPr>
          <p:cNvPr id="153" name="ilpotere.mp3" descr=""/>
          <p:cNvPicPr/>
          <p:nvPr/>
        </p:nvPicPr>
        <p:blipFill>
          <a:blip r:embed="rId1"/>
          <a:stretch/>
        </p:blipFill>
        <p:spPr>
          <a:xfrm>
            <a:off x="4419720" y="3276720"/>
            <a:ext cx="304560" cy="304560"/>
          </a:xfrm>
          <a:prstGeom prst="rect">
            <a:avLst/>
          </a:prstGeom>
          <a:ln w="0">
            <a:noFill/>
          </a:ln>
        </p:spPr>
      </p:pic>
    </p:spTree>
  </p:cSld>
  <p:transition advTm="3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8" descr="IMG_0263"/>
          <p:cNvPicPr/>
          <p:nvPr/>
        </p:nvPicPr>
        <p:blipFill>
          <a:blip r:embed="rId1"/>
          <a:stretch/>
        </p:blipFill>
        <p:spPr>
          <a:xfrm>
            <a:off x="250920" y="971640"/>
            <a:ext cx="3494160" cy="2609640"/>
          </a:xfrm>
          <a:prstGeom prst="rect">
            <a:avLst/>
          </a:prstGeom>
          <a:ln w="0">
            <a:noFill/>
          </a:ln>
        </p:spPr>
      </p:pic>
      <p:pic>
        <p:nvPicPr>
          <p:cNvPr id="168" name="Picture 9" descr="IMG_0267"/>
          <p:cNvPicPr/>
          <p:nvPr/>
        </p:nvPicPr>
        <p:blipFill>
          <a:blip r:embed="rId2"/>
          <a:stretch/>
        </p:blipFill>
        <p:spPr>
          <a:xfrm>
            <a:off x="3851280" y="1681200"/>
            <a:ext cx="4530600" cy="3384360"/>
          </a:xfrm>
          <a:prstGeom prst="rect">
            <a:avLst/>
          </a:prstGeom>
          <a:ln w="0">
            <a:noFill/>
          </a:ln>
        </p:spPr>
      </p:pic>
      <p:pic>
        <p:nvPicPr>
          <p:cNvPr id="169" name="Picture 10" descr="IMG_0268"/>
          <p:cNvPicPr/>
          <p:nvPr/>
        </p:nvPicPr>
        <p:blipFill>
          <a:blip r:embed="rId3"/>
          <a:stretch/>
        </p:blipFill>
        <p:spPr>
          <a:xfrm>
            <a:off x="1398600" y="3733920"/>
            <a:ext cx="2346480" cy="1752480"/>
          </a:xfrm>
          <a:prstGeom prst="rect">
            <a:avLst/>
          </a:prstGeom>
          <a:ln w="0">
            <a:noFill/>
          </a:ln>
        </p:spPr>
      </p:pic>
    </p:spTree>
  </p:cSld>
  <p:transition advTm="3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9" descr="IMG_0277"/>
          <p:cNvPicPr/>
          <p:nvPr/>
        </p:nvPicPr>
        <p:blipFill>
          <a:blip r:embed="rId1"/>
          <a:stretch/>
        </p:blipFill>
        <p:spPr>
          <a:xfrm>
            <a:off x="179280" y="0"/>
            <a:ext cx="3745080" cy="2797200"/>
          </a:xfrm>
          <a:prstGeom prst="rect">
            <a:avLst/>
          </a:prstGeom>
          <a:ln w="0">
            <a:noFill/>
          </a:ln>
        </p:spPr>
      </p:pic>
      <p:pic>
        <p:nvPicPr>
          <p:cNvPr id="171" name="Picture 12" descr="IMG_0278"/>
          <p:cNvPicPr/>
          <p:nvPr/>
        </p:nvPicPr>
        <p:blipFill>
          <a:blip r:embed="rId2"/>
          <a:stretch/>
        </p:blipFill>
        <p:spPr>
          <a:xfrm>
            <a:off x="3635280" y="2984400"/>
            <a:ext cx="5184720" cy="3873600"/>
          </a:xfrm>
          <a:prstGeom prst="rect">
            <a:avLst/>
          </a:prstGeom>
          <a:ln w="0">
            <a:noFill/>
          </a:ln>
        </p:spPr>
      </p:pic>
    </p:spTree>
  </p:cSld>
  <p:transition advTm="3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703dff"/>
                </a:solidFill>
                <a:latin typeface="Castellar"/>
              </a:rPr>
              <a:t>Il potere del trio</a:t>
            </a:r>
            <a:endParaRPr b="0" lang="en-US" sz="48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haparral Pro Light"/>
              </a:rPr>
              <a:t>Fiaba tratta da Palmiro, un nome da fachiro di Matteo Bergamo</a:t>
            </a:r>
            <a:endParaRPr b="0" lang="en-US" sz="3200" spc="-1" strike="noStrike">
              <a:solidFill>
                <a:srgbClr val="000000"/>
              </a:solidFill>
              <a:latin typeface="Comic Sans MS"/>
            </a:endParaRPr>
          </a:p>
        </p:txBody>
      </p:sp>
    </p:spTree>
  </p:cSld>
  <p:transition advTm="3000">
    <p:random/>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4" presetSubtype="2">
                                  <p:stCondLst>
                                    <p:cond delay="0"/>
                                  </p:stCondLst>
                                  <p:childTnLst>
                                    <p:anim calcmode="lin" valueType="num" to="1.5">
                                      <p:cBhvr additive="repl">
                                        <p:cTn id="12" dur="2000" fill="hold"/>
                                        <p:tgtEl>
                                          <p:spTgt spid="155">
                                            <p:txEl>
                                              <p:pRg st="2" end="2"/>
                                            </p:txEl>
                                          </p:spTgt>
                                        </p:tgtEl>
                                        <p:attrNameLst>
                                          <p:attrName>style.fontSize</p:attrName>
                                        </p:attrNameLst>
                                      </p:cBhvr>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8" presetSubtype="16">
                                  <p:stCondLst>
                                    <p:cond delay="0"/>
                                  </p:stCondLst>
                                  <p:childTnLst>
                                    <p:animEffect filter="diamond(in)" transition="out">
                                      <p:cBhvr additive="repl">
                                        <p:cTn id="16" dur="2000"/>
                                        <p:tgtEl>
                                          <p:spTgt spid="154"/>
                                        </p:tgtEl>
                                      </p:cBhvr>
                                    </p:animEffect>
                                    <p:set>
                                      <p:cBhvr>
                                        <p:cTn id="17" dur="1" fill="hold">
                                          <p:stCondLst>
                                            <p:cond delay="1999"/>
                                          </p:stCondLst>
                                        </p:cTn>
                                        <p:tgtEl>
                                          <p:spTgt spid="154"/>
                                        </p:tgtEl>
                                        <p:attrNameLst>
                                          <p:attrName>style.visibility</p:attrName>
                                        </p:attrNameLst>
                                      </p:cBhvr>
                                      <p:to>
                                        <p:strVal val="hidden"/>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54"/>
                                        </p:tgtEl>
                                        <p:attrNameLst>
                                          <p:attrName>style.visibility</p:attrName>
                                        </p:attrNameLst>
                                      </p:cBhvr>
                                      <p:to>
                                        <p:strVal val="visible"/>
                                      </p:to>
                                    </p:set>
                                    <p:animEffect filter="blinds(horizontal)" transition="in">
                                      <p:cBhvr additive="repl">
                                        <p:cTn id="2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0" y="0"/>
            <a:ext cx="7696080" cy="3657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a americana città di San Francisco, metropoli degli Stati Uniti, secondo un’antica tradizione, se ad una neonata veniva dato un nome che cominciava per ''Z'' questa diveniva automaticamente una strega. Il caso più emblematico fu quello della celeberrima Zinco, la quale prosperò nell ' arte della stregoneria fino a quando fu costretta a trasferirsi all' estero a causa della paura globale che colpì tutta la popolazione dopo un ultimo spaventoso attacco di demoni. La gente da allora cominciò a chiamare le proprie bambine con qualsiasi nome purché non cominciasse per ''Z'' per paura che, crescendo, queste diventassero delle streghe, anche se buone, pur sempre delle streghe.</a:t>
            </a:r>
            <a:endParaRPr b="0" lang="en-US" sz="2000" spc="-1" strike="noStrike">
              <a:solidFill>
                <a:srgbClr val="000000"/>
              </a:solidFill>
              <a:latin typeface="Comic Sans MS"/>
            </a:endParaRPr>
          </a:p>
        </p:txBody>
      </p:sp>
      <p:pic>
        <p:nvPicPr>
          <p:cNvPr id="157" name="Picture 4" descr="a_trio"/>
          <p:cNvPicPr/>
          <p:nvPr/>
        </p:nvPicPr>
        <p:blipFill>
          <a:blip r:embed="rId1"/>
          <a:stretch/>
        </p:blipFill>
        <p:spPr>
          <a:xfrm>
            <a:off x="3492360" y="2997360"/>
            <a:ext cx="5062680" cy="3527280"/>
          </a:xfrm>
          <a:prstGeom prst="rect">
            <a:avLst/>
          </a:prstGeom>
          <a:ln w="0">
            <a:noFill/>
          </a:ln>
        </p:spPr>
      </p:pic>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1241280"/>
            <a:ext cx="7696080" cy="56167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 strano pensare a streghe buone e demoni in una città moderna come San Francisco ma proprio perché è una città grande e moderna il male dilaga. Un giorno nella grande città si trasferì una famiglia in attesa di una bambina. Al momento della nascita i genitori non erano al corrente della storia legata ai nomi che iniziano per ''Z'', del resto si sa che in una grande città farsi amicizie è difficile: tutto è frenetico e ognuno pensa per sé. La bambina fu quindi chiamata Zara. L'ufficiale che registrò il nome non si preoccupò di avvisare i genitori, del resto se volevano che la loro bambina diventasse una strega erano affari loro. </a:t>
            </a: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rescendo Zara cominciò a sviluppare dei poteri eccezionali. I genitori che non capivano, cominciarono a farla visitare nei più moderni ospedali del paese senza ottenere una spiegazione logica, finché un giorno una vecchia vicina, dispiaciuta per l ' angoscia che assaliva quei genitori, raccontò loro la leggenda dei nomi femminili che iniziano con la ''Z''.</a:t>
            </a:r>
            <a:endParaRPr b="0" lang="en-US" sz="2000" spc="-1" strike="noStrike">
              <a:solidFill>
                <a:srgbClr val="000000"/>
              </a:solidFill>
              <a:latin typeface="Comic Sans MS"/>
            </a:endParaRPr>
          </a:p>
        </p:txBody>
      </p:sp>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284360" y="476280"/>
            <a:ext cx="3771720" cy="612144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Nel frattempo il mondo demoniaco, messo al corrente della nascita della piccola strega buona, cominciò ad attaccarla, ma lei ebbe sempre la meglio perché era una delle streghe più potenti al mondo. </a:t>
            </a:r>
            <a:endParaRPr b="0" lang="en-US" sz="1800" spc="-1" strike="noStrike">
              <a:solidFill>
                <a:srgbClr val="000000"/>
              </a:solidFill>
              <a:latin typeface="Comic Sans MS"/>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 genitori, disperati, presero una decisione e Zara fu mandata da una zia a Boston. La tristezza della bambina fu subito alleviata dall’incontro con due cuginette della stessa età: Zamilia e Zeffira. Zara però non raccontò loro dei suoi poteri perché le era stato vietato di parlarne dai genitori. Le tre bambine legarono subito e passarono giornate intere a giocare nella soffitta. Un giorno, rovistando qua e là, trovarono un vecchio libro con la copertina di cuoio; non appena lo presero in mano il libro emanò una forte luce. </a:t>
            </a:r>
            <a:endParaRPr b="0" lang="en-US" sz="1800" spc="-1" strike="noStrike">
              <a:solidFill>
                <a:srgbClr val="000000"/>
              </a:solidFill>
              <a:latin typeface="Comic Sans MS"/>
            </a:endParaRPr>
          </a:p>
        </p:txBody>
      </p:sp>
      <p:pic>
        <p:nvPicPr>
          <p:cNvPr id="160" name="Picture 7" descr="b_trio"/>
          <p:cNvPicPr/>
          <p:nvPr/>
        </p:nvPicPr>
        <p:blipFill>
          <a:blip r:embed="rId1"/>
          <a:stretch/>
        </p:blipFill>
        <p:spPr>
          <a:xfrm>
            <a:off x="685800" y="2384280"/>
            <a:ext cx="3772080" cy="2544840"/>
          </a:xfrm>
          <a:prstGeom prst="rect">
            <a:avLst/>
          </a:prstGeom>
          <a:ln w="0">
            <a:noFill/>
          </a:ln>
        </p:spPr>
      </p:pic>
    </p:spTree>
  </p:cSld>
  <p:transition advTm="3000">
    <p:random/>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mph" presetID="6">
                                  <p:stCondLst>
                                    <p:cond delay="0"/>
                                  </p:stCondLst>
                                  <p:childTnLst>
                                    <p:animScale>
                                      <p:cBhvr>
                                        <p:cTn id="28" dur="2000" fill="hold"/>
                                        <p:tgtEl>
                                          <p:spTgt spid="1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539640" y="259920"/>
            <a:ext cx="3918240" cy="52261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ubito le tre cugine capirono che era successo qualcosa, aprirono il libro e videro che era pieno di incantesimi. A quel punto si confidarono tra loro e scoprirono di avere tutte e tre i poteri, capirono di essere più forti in tre e di essere destinate al famoso potere del trio citato dal libro. Le bambine divennero ragazze, svilupparono forti poteri e, nonostante la vita frenetica, eliminarono migliaia di demoni, sacrificando però la loro vita sentimentale: nessun ragazzo del XXI secolo avrebbe creduto nelle streghe! </a:t>
            </a:r>
            <a:endParaRPr b="0" lang="en-US" sz="2000" spc="-1" strike="noStrike">
              <a:solidFill>
                <a:srgbClr val="000000"/>
              </a:solidFill>
              <a:latin typeface="Comic Sans MS"/>
            </a:endParaRPr>
          </a:p>
        </p:txBody>
      </p:sp>
      <p:pic>
        <p:nvPicPr>
          <p:cNvPr id="162" name="Picture 7" descr="c_trio"/>
          <p:cNvPicPr/>
          <p:nvPr/>
        </p:nvPicPr>
        <p:blipFill>
          <a:blip r:embed="rId1"/>
          <a:stretch/>
        </p:blipFill>
        <p:spPr>
          <a:xfrm>
            <a:off x="4572000" y="4005360"/>
            <a:ext cx="3772080" cy="2736720"/>
          </a:xfrm>
          <a:prstGeom prst="rect">
            <a:avLst/>
          </a:prstGeom>
          <a:ln w="0">
            <a:noFill/>
          </a:ln>
        </p:spPr>
      </p:pic>
    </p:spTree>
  </p:cSld>
  <p:transition advTm="3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447920" y="4220640"/>
            <a:ext cx="7696080" cy="263700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er questo motivo Zara decise di tornare a casa dei suoi genitori all' età di diciotto anni, ma non fu una bella idea: il male infatti la seguì anche lì.  Un demone chiamato Rattomel, che aveva il potere di trasformare se stesso e le persone in grossi topi bianchi, portò caos nella città. Zara, avendo il potere di orbitare, portò le sue cugine in città ma fu inutile e  insieme non riuscirono a sconfiggerlo: era troppo forte. Il libro delle ombre parlava di Rattomel come di un demone invincibile quindi contro di lui serviva un potente incantesimo. Le ragazze riuscirono ad intrappolare Rattomel in un campo magnetico creato da cristalli, dopo di che gli tagliarono il lobo dell’orecchio e lo usarono per creare una pozione che non lo eliminò ma lo rese umano.</a:t>
            </a:r>
            <a:endParaRPr b="0" lang="en-US" sz="1600" spc="-1" strike="noStrike">
              <a:solidFill>
                <a:srgbClr val="000000"/>
              </a:solidFill>
              <a:latin typeface="Comic Sans MS"/>
            </a:endParaRPr>
          </a:p>
        </p:txBody>
      </p:sp>
      <p:pic>
        <p:nvPicPr>
          <p:cNvPr id="164" name="Picture 7" descr="d_trio"/>
          <p:cNvPicPr/>
          <p:nvPr/>
        </p:nvPicPr>
        <p:blipFill>
          <a:blip r:embed="rId1"/>
          <a:stretch/>
        </p:blipFill>
        <p:spPr>
          <a:xfrm>
            <a:off x="2959200" y="0"/>
            <a:ext cx="3273480" cy="4230720"/>
          </a:xfrm>
          <a:prstGeom prst="rect">
            <a:avLst/>
          </a:prstGeom>
          <a:ln w="0">
            <a:noFill/>
          </a:ln>
        </p:spPr>
      </p:pic>
    </p:spTree>
  </p:cSld>
  <p:transition advTm="3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360" y="333000"/>
            <a:ext cx="7696080" cy="547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In questo modo a Rattomel fu data l' occasione di rimediare agli errori passati, che lo avevano reso demone dopo la morte.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 </a:t>
            </a:r>
            <a:r>
              <a:rPr b="0" i="1" lang="it-IT" sz="2400" spc="-1" strike="noStrike">
                <a:solidFill>
                  <a:srgbClr val="000000"/>
                </a:solidFill>
                <a:latin typeface="Comic Sans MS"/>
              </a:rPr>
              <a:t>A tutti andrebbe data una seconda occasione, anche gli errori a volte portano a qualcosa di buono. Certo Zara non sarebbe mai stata una bambina normale, come avrebbero voluto i suoi genitori, ma era contenta di essere una strega.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Ogni nome ha un significato e porta con sé un destino, noi non possiamo sapere se sarà buono o cattivo finché non siamo noi stessi a realizzarlo. Anche Rattomel aveva un destino nel suo nome: quello di essere il re dei topi, senza però togliergli la possibilità di rimediare.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La città ormai era salva grazie al potere del trio e le persone furono orgogliose, da quel giorno, di chiamare le proprie figlie con la lettera ''Z''.</a:t>
            </a:r>
            <a:endParaRPr b="0" lang="en-US" sz="2400" spc="-1" strike="noStrike">
              <a:solidFill>
                <a:srgbClr val="000000"/>
              </a:solidFill>
              <a:latin typeface="Comic Sans MS"/>
            </a:endParaRPr>
          </a:p>
        </p:txBody>
      </p:sp>
    </p:spTree>
  </p:cSld>
  <p:transition advTm="3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88640"/>
            <a:ext cx="7696080" cy="6119640"/>
          </a:xfrm>
          <a:prstGeom prst="rect">
            <a:avLst/>
          </a:prstGeom>
          <a:noFill/>
          <a:ln w="0">
            <a:noFill/>
          </a:ln>
        </p:spPr>
        <p:txBody>
          <a:bodyPr anchor="t">
            <a:normAutofit fontScale="99000"/>
          </a:bodyPr>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rtoni Matteo</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zzali Giulia</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Battigaglia Azzurra</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Bernardi Letizia Lucrezia</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Biacchi Maria Vittoria</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Bruka Daniele</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ervi Michele</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Grossi Chiara</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ulai Seansiei Kevin Cedric</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Romanazzi Benedetta</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Rosati Daniele</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erzo Thomas</a:t>
            </a:r>
            <a:endParaRPr b="0" lang="en-US" sz="2800" spc="-1" strike="noStrike">
              <a:solidFill>
                <a:srgbClr val="000000"/>
              </a:solidFill>
              <a:latin typeface="Comic Sans MS"/>
            </a:endParaRPr>
          </a:p>
          <a:p>
            <a:pPr marL="60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imis Laura Denisa</a:t>
            </a:r>
            <a:endParaRPr b="0" lang="en-US" sz="2800" spc="-1" strike="noStrike">
              <a:solidFill>
                <a:srgbClr val="000000"/>
              </a:solidFill>
              <a:latin typeface="Comic Sans MS"/>
            </a:endParaRPr>
          </a:p>
        </p:txBody>
      </p:sp>
    </p:spTree>
  </p:cSld>
  <p:transition advTm="3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1T07:14:28Z</dcterms:created>
  <dc:creator>ROAD-PC</dc:creator>
  <dc:description/>
  <dc:language>en-US</dc:language>
  <cp:lastModifiedBy>Daniel Boccacci</cp:lastModifiedBy>
  <dcterms:modified xsi:type="dcterms:W3CDTF">2013-12-08T11:34:26Z</dcterms:modified>
  <cp:revision>5</cp:revision>
  <dc:subject/>
  <dc:title>C’er@ una volta esperienze di scrittura multimediale</dc:title>
</cp:coreProperties>
</file>